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328D488-EE3D-486E-A762-E88A8C894F7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3942D42-F593-4180-8612-750189DCB1E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833397E-7864-44F1-A5AA-090D5674E5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EA48-5454-4F19-BA5A-C6A9A67D5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2DC1-C449-4100-BDCE-E496DBF102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52300-73CF-4451-A6AB-10D9F8EE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3A0F-DF25-418B-B255-2C62B0D5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52B14-993D-42E6-9869-80DBE568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5E94-3266-4659-8BDF-A0BADBF4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BE9B6-2330-4FB8-A838-B38167A7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2E8E9-1FA0-4877-9E53-7171955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CEECF-5F4C-403D-BDED-0634B49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E1783-D30B-4E65-8079-21E6F9A2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79E78-FC9E-4836-B0C1-B13D67B0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692D9-E993-4D3F-8C96-D92A0A85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C72A-AE0C-41F7-833C-D5F01757BB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DFF93-224B-430F-BCE8-6CF3099B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E53C2-958A-497F-984E-2597F96A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ED27-D0BD-4837-B5D9-41E27A88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24463-D8D1-4249-A16D-CC90A0AD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525D-1D99-46A5-A6FB-BCDD7E8F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1FA8C-8A84-49F9-9CA9-696C5D10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4F64D-608A-4BC2-BBAC-24AC84D6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DE1D7-8EAB-4E8D-97DA-456356D0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55B83-2E85-4704-AFA0-DCBEA655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54F89-035B-4774-A999-B1FD215D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627F-9359-4FFA-BDD1-097A67A137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1C8D4-6959-4507-8F6A-6C83CB14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D75B0-8144-408D-ADD0-EA1E24EA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BD2DA-A810-41B0-B02D-180958B7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99A31-6122-4E12-B98E-109107B0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A7412-A9BF-41EB-A9E2-86470E36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CDAC9-8208-4520-8381-E010C90F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02561-B334-4A5A-A462-F8416E3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18473-EA0D-49FD-B0CE-31FC120E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61BAE-819A-4070-9ED3-D325810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34771-63ED-42AA-BA9A-FBE7572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2F1E7-D417-4DC3-860E-449D6E71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26AF2-33FC-4CFF-A846-46D5E724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28A4-B158-4EF2-8C06-0E36EFCB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7F285-1DF6-4D42-94CD-BAE5480D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AB47E-ED7C-4A48-9614-BEF9DC75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F4325-716B-4FE4-AF61-535950F2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E0E9F-4A13-4D9B-9449-DED71648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3C909-D24F-4500-9B47-48D5B992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DAF4A-6074-4BCE-8503-D35ABD10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996AE-2A33-4346-877C-40168D0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49576-F3DC-46B5-80AE-4F79FFD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959D0-F1ED-4128-973D-949D2A7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34B3F-0B9E-41B8-B184-16C3BAB7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A61E9-792C-4DD3-AF1B-8859F550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06264-AE63-43EF-A412-CBC270AE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C1ADD-F3A6-4D8F-902E-455214FA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90614-611F-4309-A61A-F80E1703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F8795-D9DA-4B7D-B7C1-8217A008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83352-7BC0-4D8B-AA06-1AC033B1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45D3C-7ABE-4871-8FC3-967E12B0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9B852-750C-4AFA-BF49-D96B5D4B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4DF9D-25B0-4E3A-B8EE-AE6A00B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A127E-BCEA-43F2-83B5-DFEC5537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AC0F0-4560-4450-8B1C-6A602DA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39D4B-19E2-4108-B93A-6A5C147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98A11-F6FC-4BDE-B8F3-D37A3CA3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12670-E68C-4852-8EE6-76848460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D9A32-3EE0-418D-B189-DCF34A68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A985C-6358-4627-AA5B-0E70A3E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672B4-315D-4355-9813-3A823BD3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695B0-A1D4-42F6-B2FE-63A1271D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62441-AD99-4A72-ADB0-D8B9C7D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7B176-2590-407D-8A2E-8F7F2C82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6C4C9-9DE2-4930-8414-3C82EEF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23D65-F095-46AA-A121-240C29EB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F833E-3200-4FD7-B892-09ECFAB2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95F5F-7CF0-4F16-A7A7-98537453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189AF-BC80-4112-AD61-259B9513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42C49-E051-46E3-AFE3-08FADCFE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950B6-0A93-49DD-90D2-12524F14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2F97D-53E6-4602-8279-2FCC42C6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C425B-C5E3-4C4B-91AF-E95853F5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29F8B-EDA7-495F-AE7D-7B0F5CDE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BF340-0CE1-44B1-BE28-FF95E0DD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8268B-8200-4EE7-8368-7E6C8385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8F1B4-0CE8-4C35-806F-E39DB10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DF7BC-7985-4EC4-8879-A3B0EF02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CA46D-6F4D-4E91-80FC-56EDF13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566D2-616C-4D1E-A7E3-CE453199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78D22-D7AA-41BC-8DBA-9CE7EA2D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CEEB1-3AA3-4A59-8264-19FDF6E6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88049-28B4-4F38-A139-8B5CBB37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2B804-AB2B-4D4B-B6EA-91D82330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2D352-01F2-4442-8AD2-96AD0022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610F1-20C2-40D0-A0BB-257F1D6C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540EA-B184-457D-8179-6CF842D9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F8B7C-6A56-49C6-9EDF-BAE33652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D6B61-FDE1-47F2-83CB-71B3D87F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5ED13-12C6-46DB-98B3-D002D2A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DF551-765F-493C-A5F8-C463EFD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35DB9-78B5-4D71-81A2-0D1C0A24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77A7D-5625-45D7-BB4B-0E1BA9E3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95949-E980-4AA6-9D58-B200F757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170A3-4A49-486A-9254-BF683438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FF421-D45E-40C7-BA82-53AF5ED3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B511B-48D6-4B40-8ED5-9D761AC1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D8529-E166-42E2-B7E5-D8D34FA4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1B0A7-0483-421F-8776-51054BE7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5D1E8-E588-44A9-8051-201DCDB5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2A127-604E-413A-9313-95BA04E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92A2-18BF-447D-A6DD-0A19FCE5E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F794C-0A1D-437B-B4DA-D1860A16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15D2F-E259-499F-8442-07C7673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DA1D3-D7DF-42AA-8A14-46F70BF8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9486D-6A5B-4615-B331-ACEC9421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5172E-ECE2-4562-BBB6-5B75F858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23A09-EF04-4062-8C0B-231745E0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C5DE7-B238-4B2A-AED6-61FBFCEC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77D46-A289-4706-AC80-F5037A6B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0CE49-B678-4F33-AD3E-600F489F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31950-9F91-4932-90DF-CC9FFDCE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0476B-174E-4C26-9F72-D194EC40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BB93E-A233-442F-8329-1DF41D13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0B9D4-90C9-471E-BC55-6604236E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187A5F-9B2A-4BBE-9D7C-E3CF669F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8882D-3CA9-4B73-A0B6-55CA3D62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93D2B-38EB-445C-8A66-E8AED17D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B3B13-C6C1-46F9-A2D0-A8BA9A6D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29FB4-ECB7-4BAA-83B7-3A49532A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DB46D-ABC3-411B-A27E-0C8D2F11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9640-5B7B-4334-8554-E494ED65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EFB7D-D084-47C1-91CC-F7B989E6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388C3-B156-4D71-A26E-CEE3521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7DB79-63FC-4866-B831-5D528CD6D2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F033D-D4CA-4B78-A36E-259B843B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43CF0-104B-46D6-AC05-3C764544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FC9BA-E07B-4713-A028-47F31E6B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FCAE8-DA18-430D-AD3A-210EAB28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F47B0-9B95-45C7-AB7D-001B5E4C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8D885-00F9-4B38-B716-DD24FB60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63C91-693C-4D12-A3F2-9253EFFD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F58D-F8F3-44A8-B0C8-FC40D83D94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6455E-D798-4465-B9F2-3799DFBA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71C9-11A3-4871-87CC-2345677AB7A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CCF8C-4FB5-4E6C-B31F-5F46007A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E86D0-52F6-4D3F-88CF-53DD1F88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A7C6E-EEF6-4E7E-8BA6-BFF67720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6AEF1-A83E-4BFF-A5BF-24638B07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DB7CC-F3FD-4F8B-A698-D429085C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FA239-FCCB-4A14-912B-E7D78E9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0167B-E287-4A91-835C-1910C4C2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8BC01-F70B-433A-B3AB-26CB336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9EC70-5281-4C5F-AC41-5C55F182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179F5-3EDD-4068-8881-90329CF1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AA87-F623-4183-B7A2-593ED1F84E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306E2-8353-4B23-9CC2-E36AF134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72EE6-1FE4-441B-8FA3-00380C879C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F613B-0612-4E6A-906F-94CB70DD41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3BE4C-CF80-4AD0-9865-A829C6942F9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015E0-0204-4C41-9F8E-B5CBA203DA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B7417-7C3C-492D-897B-FE4880003F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503E9-21A0-492D-8CDD-DF8A66BD5F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55493-850D-41E7-9ECA-9614C4B2B7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5685C-E0A6-49F5-853C-5111440077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B819B-C6F4-46C2-B24A-2F69DD58E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2778-7B88-457C-87EC-8254E0941C8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6D0761-A1F9-4C16-B021-8139FCE247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A37A5-82E1-4055-9AD5-60B1262799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2EAFF-DBEF-4FBB-B289-93BF8DEB3D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F0ED6-08EF-4E82-8C70-A91409F857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EEAA9-E583-462F-BB7B-4CC14BCE8E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F17F8-E671-46B5-81E3-3D9A133D9F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9DF1-3569-4A0A-89DE-2CCD9865866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3426-04CE-4918-A5DD-2E1CB92380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1DD7A-FA10-4D41-B639-94AB860BFA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5048C-8136-4391-A184-3348D42FD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F459-EAD1-4506-8AA5-97E55EA74A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076C-B532-4D9D-B93C-A5E1550D7CB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EBAB-43DB-49D3-B6D5-BBD49E835F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F537-1A8B-4170-9D77-4BFBA31166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302F-D119-4F89-8C4C-EBF0EF464E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6697-4670-4FB3-848F-B0D6166F2D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F1FE-981F-4BB7-89D1-039C45E7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B5041-8253-4395-B5CE-A919BBA3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43D5-5920-4A9A-BE00-CD1FD806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B2205-2F16-4C60-95E1-CABE8A4F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A64C-323F-45A0-B9C5-2EA0C518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883D-7C50-47F8-AFE3-67F2215B04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644C7-8EC2-468A-8C96-1FC78731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63C63-F111-400D-9C94-96A96A66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EF629-6214-4F93-B94B-81FB113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BAD40-2DD2-4BF4-B89C-109EE6E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F0385-49B9-4AD3-9418-C91DB27C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8157-8A06-4754-9A3F-8F4926E3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38FDA-EAC2-4C62-BC52-8C7A4E88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D3EC-D6E2-4EE9-87C0-7DCAF959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D1FFC-D49D-4FE0-BEC8-70CBE412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1ED85-E2A4-4B0D-8815-815E81EA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5F02-1FC9-43CD-8FBA-AAE63E276DE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6332-77F1-449B-83B3-775884748B3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B312-DB15-4D0B-9B67-C952CD86406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7D76-6220-4728-8A8D-C784CE52FD4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E18C-7263-4D76-8AA7-76431F6D05B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6DF2-5668-4EDA-8C36-EA854972A5D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AF4F-BA1F-44EE-8E97-AE7414E6108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AFA2-9AE2-4ED8-B192-41FFC521CC9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81D-5966-447C-86BC-C0E757DC834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97F7-067C-4FCB-BE68-91286182209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EDB-DA04-4C5F-B99A-FE36EA73AD9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F62-73E6-4704-B73B-AA6ACA13064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A1CF-2D4B-43B3-8986-C4DDD6A025E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4991-27C4-49EE-A8A2-3686288680A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C88D-AAA1-4CE3-B896-47DD324EC14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330C-F4F1-40F1-A1C3-C03AE6E7D2C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79C8-FC56-4ED7-81CB-32EE526D745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5D50-E1DC-4883-9186-19F643B6CD1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A2E4-DCF5-4E58-BDC2-257EC28C2B8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27EE-0B78-481E-A0F4-F38B3E70B8E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4720-DD31-4A15-9175-4D3F600422A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BD73-7730-4F95-8A68-D05DC6F75C8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A749-799A-4835-9EA3-BB9F9711CBB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B04A-2845-439B-8381-D9278C17DBC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A5D5-6897-408A-BFFB-BD74BA3C8D2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ip.legalis.pl/document-view.seam?documentId=mfrxilrtge2tqmrtgu2tsltqmfyc4mzrga2dqnbwgm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0000"/>
                </a:solidFill>
                <a:latin typeface="Candara"/>
              </a:rPr>
              <a:t>KRYTERIA OCENY OFER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Użyte w rozporządzeniu określenia oznacza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0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lokalizacj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- budynek lub zespół budynków oznaczonych tym samym adresem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albo oznaczonych innymi adresami, ale położonych obok siebie i tworzących funkcjonalną całość, w których jest zlokalizowane miejsce udzielania świadczeń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1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miejsce udzielania świadczeń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pomieszczenie lub zespół pomieszczeń w tej samej lokalizacji, powiązanych funkcjonalnie i organizacyjnie w celu wykonywania świadczeń gwarantowa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ferent, który deklaruje spełnianie warunku podlegającego ocenie, jest obowiązany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go spełniać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 okresie związania ofertą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ra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ez cały okres realizacji umowy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chyba że przepisy rozporządzenia stanowią inaczej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Oferent, który zadeklarował spełnianie określonego warunku podlegającego ocenie, jest obowiązany go spełniać 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datkowo ponad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warunki realizacji świadczeń określone w rozporządzeniach wydanych na podstawie art. 31d ustawy o świadczenia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272880" y="620280"/>
            <a:ext cx="936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) certyfikat ma zastosowanie w przedmiocie postępowania, na który złożono ofert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2) certyfikat obejmuje miejsce udzielania świadczeń wskazane w ofercie, a w przypadku dysponenta zespołów ratownictwa medycznego - miejsce stacjonowania zespołów ratownictwa medycznego wskazane w oferc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3)  certyfikat jest wydany przez jednostkę certyfikującą systemy zarządzania posiadającą akredytację udzieloną przez Polskie Centrum Akredytacji lub przez jednostkę akredytującą będącą sygnatariuszem porozumienia o wzajemnym uznawaniu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„EA Multilateral Agreement” i jest opatrzony symbolem akredytacji jednostki akredytując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4) certyfikat jest wydany w zakresie systemów zarządzania: ISO 9001, ISO/IEC 27001, ISO 17025 lub 15189 - zgodnie z ich przyporządkowaniem do poszczególnych zakresów świadczeń wynikającym z załączników do rozporządzenia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5) akredytacja, o której mowa w pkt 3, obejmuje certyfikację systemów zarządzania wymienionych w pkt 4 oraz jest wydana w zakresie usług medycznych (branża „Zdrowie i opieka społeczna” zgodnie z kodem 38 EA, w przypadku: ISO 9001, ISO 14001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PN-N 18001 lub OHSAS 18001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415440" y="620640"/>
            <a:ext cx="90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7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wpisu do rejestru jest spełnione, jeżeli wpis jest ujawniony w księdze rejestrowej oferenta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8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"jakość - wyniki kontroli" jest spełnione, jeżeli nieprawidłowość dotyczy umowy realizowanej w dniu złożenia oferty w ramach danego zakresu świadczeń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i w ramach obszaru, którego dotyczy postępowanie, oraz została stwierdzona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ostępowaniu kontrolnym zakończonym wystąpieniem pokontrolnym lub w trakcie monitorowania, o którym mowa w art. 107 ust. 5 pkt 12 ustawy o świadczeniach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944280" y="1700280"/>
            <a:ext cx="8026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Jakość wyniki kontroli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Przedmiotowe kryterium obejmuje wszystkie kontrol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a nie jedynie ostatnią), dotyczące umowy realizowa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dniu złożenia oferty w ramach danego zakresu świadczeń i w ramach obszaru, którego dotyczy postępow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488880" y="620640"/>
            <a:ext cx="907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9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rzypadku uzyskania jednakowej łącznej oceny oferty przez co najmniej dwóch oferentów kryterium różnicującym oferty stanowi ocena uzyskana w kolejności według następujących kryteriów: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iągł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oraz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en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pielęgnacyjne 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pielęgniarskiej opiece długoterminowej domow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933480" y="1341360"/>
            <a:ext cx="8110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tylko pielęgniarki z ukończoną specjalizacją lub kursem kwalifikacyjnym we wskazanej dziedzinie pielęgniarstwa, 40% liczone od sumy wykazanego czasu pracy pielęgniarek w oferc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631800" y="1744560"/>
            <a:ext cx="8713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560160" y="148428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Ministra Zdrowi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sprawie szczegółowych kryteriów wyboru ofert w postępowaniu w sprawie zawarcia umów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 udzielanie świadczeń opieki zdrowotn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5 sierpnia 2016 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(Dz.U. z 2016 r. poz. 1372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51E4-8F11-48A5-9716-4F254973026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2-letnim doświadczeniem w udzielaniu świadczeń w warunkach domowych…” – bierze się pod uwagę udokumentowany staż pracy w pielęgniarskiej opiece długoterminowej domowej, podstawowej opiece zdrowotnej (pielęgniarki poz), pracy w domu pomocy społecz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3-letnim doświadczeniem w pielęgnacji chorych w warunkach oddziału szpitalnego …” – bierze się pod uwagę udokumentowany staż pracy w warunkach oddziału szpitalnego (bez izby przyjęć, SO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Co najmniej 50% pielęgniarek udziela świadczeń w wymiarze równoważnika 1 etatu” – dotyczy liczby pielęgniarek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nie czasu pracy pielęgniarek) i tylko umów o pracę (wyjątek samozatrudnienie tj. indywidualne, grupowe praktyki pielęgniarskie) należy pamiętać o konieczności spełniania tego warunku przez cały okres obowiązywania umow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631800" y="2792520"/>
            <a:ext cx="8713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wszystkich świadczeniobiorców, którzy otrzymali ocenę według skali Barthel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 ze skierowania lub uzyskali taką oceną przynajmniej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 w trakcie pielęgniarskiej opieki długoterminowej domowej i byli objęci taką opieką przez co najmniej 90 dni w okresie ostatnich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iesięcy poprzedzających o 2 miesiące miesiąc, w którym ogłoszono postępowanie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488880" y="2433600"/>
            <a:ext cx="8928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488880" y="1484280"/>
          <a:ext cx="8785440" cy="4033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398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obliczeń procentowego udziału świadczeniobiorców z oceną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punktów w skali Barthel, należy brać pod uwagę wszystkie osoby objęte pielęgniarską opieką długoterminową domową, które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załączonej do skierowania karcie oceny lub w trakcie opieki uzyskały przynajmniej raz ocenę 0 punktów w skali Barthel, w stosunk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szystkich osób objętych tą formą opieki przez danego świadczeniodawcę. Sformułowanie "objętych opieką w ramach pielęgniarskiej opieki długoterminowej domowej" oznacza zarówno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 osoby , które zostały przyjęte do takiej opieki w badanym okresie czasu, jak i te osoby, które były przyjęte wcześniej, a kontynuowały opiek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488880" y="2701800"/>
            <a:ext cx="892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704880" y="1700280"/>
          <a:ext cx="8496360" cy="3384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3384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a wyliczania jest analogiczna jak w ppkt.1.2 Podstawę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yliczenia stanowią wszystkie osoby objęte pielęgniarską opieką długoterminową, które w trakcie opieki przynajmniej raz otrzymały ocenę 5-15 punktów w skali Barthel, w stosunku do wszystkich osób objętych tą formą opieki przez danego świadczeniodawc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488880" y="2576520"/>
            <a:ext cx="8928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88520" y="119664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określa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szczegółowe kryteria wyboru ofert 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w podziale na poszczególne zakresy lub rodzaje świadczeń opieki zdrowotnej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na podstawie </a:t>
            </a:r>
            <a:r>
              <a:rPr b="0" lang="pl-PL" sz="3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art. 148 ust. 3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 ustawy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27 sierpnia 2004 r. o świadczeniach opieki zdrowotnej finansowanych ze środków publicznych ( t.j. Dz.U. z 2018 r. poz. 1510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AFA8-F982-4D87-9B35-D7B5B06DAC9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704880" y="1484280"/>
          <a:ext cx="8569440" cy="39607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396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eży przyjąć, że kryterium jest spełnione, jeżeli dotyczy wszystkich świadczeniobiorców objętych świadczeniami pielęgniarskiej opieki długoterminowej domowej w okresach pomiędzy wszystkimi hospitalizacjami oraz po ich zakończeniu, z wyłączeniem zgon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 objęcia świadczeniobiorcy inną formą opieki w ramach świadczeń opieki zdrowotnej finansowanych ze środków publicznych. Spełnienie ww. warunku kryterialnych oferent może potwierdzić na podstawie zgromadzonej dokumentacji medycznej. np. w sytuacji gdy pacjent zrezygnuje ze świadczeń pielęgniarskiej opieki długoterminow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488880" y="3292560"/>
            <a:ext cx="892800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09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88880" y="2643120"/>
            <a:ext cx="8928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8928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892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76160" y="2205000"/>
          <a:ext cx="8425080" cy="309564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09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jest spełniony, gdy oferent wg stanu na dzień złożenia oferty udziela świadczeń w ramach zawartej umowy w danym zakresie świadczeń oraz w danym obszarze, na który zostało ogłoszone postępowanie. </a:t>
                      </a: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tyczy także sytuacji dokonania sukcesji generalnej czy cesji umowy, cesjonariusz (sukcesor) wchodzi w ogół praw i obowiązków wynikających z umowy o udzielanie świadczeń opieki zdrowot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415800" y="2492280"/>
            <a:ext cx="8928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776160" y="1773360"/>
          <a:ext cx="8498160" cy="360036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189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5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9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10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560520" y="2565360"/>
            <a:ext cx="8713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D0D5-5DC8-486F-B63E-61223564C95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8208720" cy="3989160"/>
          </a:xfrm>
          <a:prstGeom prst="rect">
            <a:avLst/>
          </a:prstGeom>
          <a:ln w="0">
            <a:noFill/>
          </a:ln>
        </p:spPr>
      </p:pic>
      <p:sp>
        <p:nvSpPr>
          <p:cNvPr id="845" name="Strzałka w lewo 1"/>
          <p:cNvSpPr/>
          <p:nvPr/>
        </p:nvSpPr>
        <p:spPr>
          <a:xfrm>
            <a:off x="8481960" y="243360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6" descr=""/>
          <p:cNvPicPr/>
          <p:nvPr/>
        </p:nvPicPr>
        <p:blipFill>
          <a:blip r:embed="rId2"/>
          <a:stretch/>
        </p:blipFill>
        <p:spPr>
          <a:xfrm>
            <a:off x="8459640" y="3573360"/>
            <a:ext cx="10303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Strzałka w lewo 7"/>
          <p:cNvSpPr/>
          <p:nvPr/>
        </p:nvSpPr>
        <p:spPr>
          <a:xfrm>
            <a:off x="8459640" y="4941720"/>
            <a:ext cx="1008360" cy="28764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944640" y="1268280"/>
            <a:ext cx="8026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560520" y="1557360"/>
            <a:ext cx="8410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560520" y="2205000"/>
            <a:ext cx="8410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560520" y="1644480"/>
            <a:ext cx="8410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8569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85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410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944280" y="1125360"/>
            <a:ext cx="802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Problematycz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spełnienia warunku w którym występuje pojęcie „świadczeniobiorcy” przez oferentów, którzy nie byli dotychczas stroną umowy zawartej z NFZ (opinia MZ wskazująca na równe traktowanie wszystkich świadczeniodawców ubiegających się o zawarcie umow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warunków dodatkowo ocenianych powinno być prowadzone w oparciu o dostępne dla NFZ dane,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zypadku danych niedostępnych dla NFZ, oferent który zadeklarował spełnianie określonego warunku, jest zobowiązany go udokumentować. Potwierdzenie jest możliwe w szczególności na podstawie zgromadzonej dokumentacji medyczn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"/>
          <p:cNvPicPr/>
          <p:nvPr/>
        </p:nvPicPr>
        <p:blipFill>
          <a:blip r:embed="rId1"/>
          <a:stretch/>
        </p:blipFill>
        <p:spPr>
          <a:xfrm>
            <a:off x="1446120" y="304812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415440" y="1700280"/>
            <a:ext cx="9145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yrażen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2 miesięcy poprzedzających o 2 miesiące miesiąc,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którym ogłoszono postępowanie” n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głoszenie postępowania konkursowego w dniu 7 marca 2019 r. wówczas należy brać pod uwagę ok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d 1 stycznia 2018 r. do 31 grudnia 2018 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216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Świadczenia pielęgnacyjne i opiekuńcze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ramach opieki długoterminow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mieniające rozporządzeni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szczegółowych kryteriów wyboru ofert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 dnia 8 lutego 2018 r. (Dz.U. z 2018 r. poz. 385) – </a:t>
            </a: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załącznik nr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0177-8252-4309-9EAF-E3FEFD199C5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41544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Rozporządzenie Ministra Zdrowia z dnia 5 sierpnia 2016 r. w sprawie szczegółowych kryteriów wyboru ofert w postępowaniu w sprawie zawarcia umów o udzielanie świadczeń opieki zdrowotnej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(Dz.U. z 2016, poz. 1372 z późniejszymi zmianami - w szczególności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Dz. U. z 2017 r. poz. 1279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Załącznik nr 11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–  Wykaz szczegółowych kryteriów wyboru ofert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raz z wyznaczającymi je warunkami oraz przypisaną im wartością w rodzaju </a:t>
            </a:r>
            <a:r>
              <a:rPr b="1" lang="pl-PL" sz="2000" spc="-1" strike="noStrike">
                <a:solidFill>
                  <a:srgbClr val="ff0000"/>
                </a:solidFill>
                <a:latin typeface="Candara"/>
              </a:rPr>
              <a:t>opieka paliatywna i hospicyjna -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ze zmianam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5BA6-6F73-4DD2-89DB-813DD42EAD4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48880" y="177300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1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dla poszczególnych zakresów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2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wspólne dla całego rodzaju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Kryteria wyboru ofer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95000" y="2637000"/>
            <a:ext cx="89154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Candara"/>
              </a:rPr>
              <a:t>Oceny ofert, według określonych kryteriów, dokonuje się odrębnie dla każdego oferowanego zakresu świadczeń opieki zdrowotnej w ramach danego postępowani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A570-C6E2-4182-9FFD-B694F7B4378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14Z</dcterms:modified>
  <cp:revision>1282</cp:revision>
  <dc:subject/>
  <dc:title>Slajd 1</dc:title>
</cp:coreProperties>
</file>