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  <p:sldId id="314" r:id="rId79"/>
    <p:sldId id="315" r:id="rId80"/>
    <p:sldId id="316" r:id="rId81"/>
    <p:sldId id="317" r:id="rId82"/>
    <p:sldId id="318" r:id="rId83"/>
    <p:sldId id="319" r:id="rId84"/>
    <p:sldId id="320" r:id="rId85"/>
    <p:sldId id="321" r:id="rId86"/>
    <p:sldId id="322" r:id="rId87"/>
    <p:sldId id="323" r:id="rId88"/>
    <p:sldId id="324" r:id="rId89"/>
    <p:sldId id="325" r:id="rId9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slide" Target="slides/slide59.xml"/><Relationship Id="rId80" Type="http://schemas.openxmlformats.org/officeDocument/2006/relationships/slide" Target="slides/slide60.xml"/><Relationship Id="rId81" Type="http://schemas.openxmlformats.org/officeDocument/2006/relationships/slide" Target="slides/slide61.xml"/><Relationship Id="rId82" Type="http://schemas.openxmlformats.org/officeDocument/2006/relationships/slide" Target="slides/slide62.xml"/><Relationship Id="rId83" Type="http://schemas.openxmlformats.org/officeDocument/2006/relationships/slide" Target="slides/slide63.xml"/><Relationship Id="rId84" Type="http://schemas.openxmlformats.org/officeDocument/2006/relationships/slide" Target="slides/slide64.xml"/><Relationship Id="rId85" Type="http://schemas.openxmlformats.org/officeDocument/2006/relationships/slide" Target="slides/slide65.xml"/><Relationship Id="rId86" Type="http://schemas.openxmlformats.org/officeDocument/2006/relationships/slide" Target="slides/slide66.xml"/><Relationship Id="rId87" Type="http://schemas.openxmlformats.org/officeDocument/2006/relationships/slide" Target="slides/slide67.xml"/><Relationship Id="rId88" Type="http://schemas.openxmlformats.org/officeDocument/2006/relationships/slide" Target="slides/slide68.xml"/><Relationship Id="rId89" Type="http://schemas.openxmlformats.org/officeDocument/2006/relationships/slide" Target="slides/slide69.xml"/><Relationship Id="rId90" Type="http://schemas.openxmlformats.org/officeDocument/2006/relationships/slide" Target="slides/slide70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DA58031-9BBE-47A8-9AA7-CC3F94D9C5A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43CE9EF-2E85-4421-8D90-AE885E1C44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8684F8C-D23C-41B8-93D8-5DC2C4FE72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05E2-DE88-49C3-8197-DE6EF458B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AC2A-9EDB-45F3-9934-E18EFB80187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28BD8-2773-4916-98D4-6EAFB2A3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116CF-DBB5-49DC-B38F-B093BFF3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A719A-3073-46DB-B5B3-78086C12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67395-5CBD-457A-AEC1-639DE28C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F0403-5352-4186-8BA9-DB222CAE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FA301-5DBF-48EA-97DD-FAE3C9D4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7A66A-9E1C-4F9E-B105-05ECFD3C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B33F3-A7A4-4430-ACF0-D4099E88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85AE8-FF2E-4E12-B9C0-9510E6F6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DA27E-6902-4E44-85B0-A85FB62B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54A8-278D-4DD1-90E5-9F95BB9A1DC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BFEA1-2880-464F-BA26-9A9E5FC2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F69EB-7CA1-4F9B-B6B9-A39E1C65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BFE8A-8BA3-4E3C-9DB8-26F0726E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BBB89-2A2C-4A56-9AE0-936E4E7F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1B22C-C505-4EFB-B5F4-9957234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8D365-9CF2-4107-A8AA-3F4FFE15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87CC-B4D6-4735-A249-AA30B8BB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82CAD-8FFF-4369-9D9D-8D55BDB9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A067C-111E-4596-9C64-208C29C2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C1EA6-FC2B-493B-8774-91A969EE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E716-6D48-4557-AC2C-D68F7DD15A4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47F9D-BD49-44E4-819D-8BE1EEE4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3397A-45A9-4541-89AC-B5DE197E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701BF-8A48-4D33-9D80-0D00F211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8E791-413B-4E99-ADF3-1FB3AAE7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3658A-D5CE-4836-B54A-E390BC4D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CD645-1B88-4E89-8159-FFCD60B0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C6E3B-15DB-459B-8136-9ED5AD93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0C205-72E9-4BB8-B20A-9878CEB2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AE80E-DFAC-48A8-9EF9-44F71234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03BE9-17C8-477D-837D-680236FB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5B5ED-2F2F-4992-A352-3DFB8914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C380A-425D-462F-B6F2-A59493F1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D839B-6F41-44CF-8857-DD09793F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F8F91-5344-49A0-A4EC-B295F488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52985-706F-4BD4-967F-8CFFE685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A7EBD-4CD9-4B5F-9148-05E55477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5EBDC-8AE6-47FA-ACA4-E0E65915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D9AB0-CF3D-4C0B-B467-9A485228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F7993-D7A8-4C7D-A6B1-109F0CF7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602A0-40AF-4B95-ACF8-5C05BD47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2748C-EE2B-4263-8BFF-4B855C1A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94340-8606-4A98-9034-BBA8FF9B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39344-2BA9-438E-B8B5-EEE9381C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2CDD1-6FCD-4765-8691-D00C2AB6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66CA9-B0C6-410E-9B80-DD7F3054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72277-BFE4-413A-B1A0-5C9D7AEE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7F852-61CA-44B6-B00B-643D7BC2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BF48E-C150-458A-8C85-1F6DBE1B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BF9A2-AA61-4E1F-B4EC-68E4AB49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FC946-470C-4BA8-9BC8-2A43F34C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B7206-E129-4B77-9E00-60901A03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11090-15A9-4963-8155-66EE32C1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1351A-CD91-4F87-95C5-C4DC1AFF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1D9E7-4F0B-4EB3-89D2-48C59B8F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05FB3-2324-4689-A067-26C3E149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BD79A-193A-41C2-AE40-B9B66510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3A1FD-7EB0-4CFA-B10E-FB6E6C52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67352-740C-47CA-827D-5479CF99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33104-8CBA-4DBE-BC3C-6409D863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A0AA7-857A-483F-8E7A-5E4B8FD0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4F75F-E6E2-45AF-88F0-E5CC5EFF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28B89-AA36-44DB-B0A3-D48EA667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A2803-FFFC-43EF-9EC8-ED68991B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518EE-3E8F-4B84-A5D3-9AD0AFEA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E4078-0407-4281-923D-41CABD0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60983-F661-4742-9AE9-37D9B886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340E6-D734-4228-9B9E-B5D8A95F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73D8B-5E05-4581-B377-67C254A7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4DD16-2BE8-4F20-A9E6-85B69B05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8A4C4-1D5F-459D-B948-D5F382E4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1C614-1179-4FD9-B6CF-E89AD128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B2A28-773E-4551-B677-D74FD3B3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2A0FA-34B1-450C-BBE3-20801E8D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482FC-A212-4DEB-A466-2E3BFAA8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A2C6D-D78E-4AE6-AE8B-B0EAAB23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7DAE1-B369-451F-823C-01715DA5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743C4-3D91-4B9F-92C5-E2404738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B0715-346A-4A79-A371-4249C12B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959B3-ABD5-4526-8072-46E53A61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A2AD3-076B-4903-871C-2B647C12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43768-D85B-43F8-9F8A-08BD0AD8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25C97-64CA-41F3-B1B0-013DB064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C0D46-36F6-4F9D-A392-F48A22CB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883F9-9CAF-4EBB-BA68-1001C8E7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6A006-BCB4-4311-B702-FBF25E88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E108C-D0BE-403F-B27B-E9A0AE3A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60D13-EB9B-452C-8471-E9A2B022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F33A6-35FB-4715-B649-678DC5BA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7C3AD-12EF-4B82-9C30-46D742E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CD08C-A1DB-4E37-AE8D-F5963195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D3A3F-222D-45E1-99DA-ABB8AC2D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C8361-8086-485C-9834-7AAA9996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F3C0C-14BB-4365-AD9F-150F150A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3408E-DD1C-4395-BB1A-B953B9D7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E4B46-2067-4F7C-BDD2-D18789F7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508D9-1E55-4743-A754-79B0156B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86735-3BA3-4FF1-B7F2-A047CAD9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4FD8C-8B4F-4A4E-9C27-10052645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5F82E-916A-44C9-8AF6-DA748D54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A94B1-29EF-4C24-B2E6-6761782B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8765-5CCA-40E2-9D8A-4C567D3DE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DF490-A73D-4EC9-AE6C-C58C1735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C76D7-EFF0-4EE0-A9DE-811455F8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6D240-5467-4BFB-B689-B1EE1137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9A948-C014-4F7F-A325-66A21DD9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E8C38-8C70-41E6-93BE-B96E7257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30CEF-2C12-456A-94CA-24D372B8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3BAA0-71AF-4672-8F00-FBB0D914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FE74B-AF65-4FB6-9BC4-AFA910AF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DA057-67E1-49C7-86C3-536ACD52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4B494-3341-45D4-92E3-1D611B9E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03B20-AD67-4A0B-8058-621C401E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6D6DD-44BF-4EFA-B453-958EE811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9E593-5D42-45DF-B57E-A1B705DB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15072-97D9-437C-AF89-E8C1F263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F1F98-3DD2-494D-A2C4-8229B00F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3124C-350D-4EEB-A458-D491924D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6CBCD-ED67-4B52-A1BA-081254B2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7AEA9-F076-4FAD-8402-994DA415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872F9-971E-4414-9405-A64526CB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CCB8A-0B17-4C8F-8CA7-86D9FD47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D0C2A-827D-4EE8-A248-8FB79846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B2AAC-FCAF-47F1-B102-35C9950F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E167-B9F0-4562-84EA-DBF393F4C7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E0CBE-51BD-445A-9FF2-4CE98F66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4C0E8-26DD-48D6-A30A-7258A15E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B9CCF-6C29-4144-8F06-B1374D1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90240-A6CB-4913-BAD4-7AE0E245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53DBB-5708-46A6-8566-529B9466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8AB18-06DB-498E-8925-8E1C0EB5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F6485-F48B-4EE0-85B4-4D699D79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84DF-FE11-477D-9180-24A06D744B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7213C-8649-4AF8-8849-FF1AE90D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131C6-9E3B-4399-9B5A-0F45D30290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AB203-1FFE-4491-A6B7-4AFC8E9D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2C8F7-4D38-411D-B68C-D770F6D3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2A743-603B-45E1-AB49-4E7EA03E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9DC80-50EE-448C-A4F8-6A072FB6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CB50C-1E0D-4DB4-BCCE-BDA74EA1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0542B-8122-43BA-BFB8-F408011F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D1E2D-E9F7-47C5-B47D-EC037C9C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9978B-A52A-4F2C-905D-98E1B398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6D1F4-4142-4116-B0CE-87A6AF1E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5BE15-CC20-4C1F-B440-93C2AE5C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B02D-B960-4961-906D-64361BCEDE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CCB1E-26FA-4DFF-ACEF-9A8AAC43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A6AA9-04A2-45E2-BF13-11F3E43B168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74939-A4DD-4F75-B747-24447572674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CA7AEB-354D-4FB9-A6A9-97C4E4164E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572E8-3F1A-4FEF-AB7A-9F6E95A388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7AC16-6337-4167-AD3A-87E6601819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1777F-0A07-4B85-9A7C-A14C77C43A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7564C-734F-4623-974B-C04ADAD87A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E9762-547C-4333-B071-0AF77E1981B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9CB67-BFB3-4E10-9010-12AF2959E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35AA-8A7E-4DC8-AD2E-32DB37507EB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6689B-6443-44C1-B5BC-376A3FE18C3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55BBA-92F8-4B6B-87F5-824527ADE16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9220C-4060-4181-B3F4-AF7AB0B3DF2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11A2-5527-4F55-B4FB-1AE74D68E18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EAC9-2A04-4902-8AC3-DE4E08E206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1DED-8D73-4775-AE17-401BD278C8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9288-E6B5-40C8-85BD-BF44FF337E2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14B44-600E-4BC0-89C1-7F34168010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0D6F6-19D9-4FBE-A01B-151C66E60C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A516A-9554-4009-B10E-079C1A509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B30C-0277-4DB8-A789-630F0811ADB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A8AF-D63D-4C72-84C9-7E2994B07A4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E54BE-E9D0-4EE4-BAF2-69A8FD7F73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03FF-C587-4A33-9401-4DCCD22D155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BA641-CE95-46A8-AA7A-8BE1699E9E3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7320C-9A5D-4EB9-9716-8B4C6BECC7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389A2-D32D-486D-889C-720C1A6F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36E25-0433-4B9E-8D6B-812CF815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47E9E-A8C1-47CE-915E-3C41112E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2306E-61A0-4EAA-983C-1344923B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68F8D-0551-43F9-BB4E-5D75DE6B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82DA-A783-4117-B9FF-79297C61D1F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DF961-216C-448A-B6F7-0C4DDF4E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4C53F-52AC-4A6C-A250-C4537D8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083E-8026-47D0-97CE-301DB72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C71ED-85F1-465F-A540-CF199B31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29312-BC66-4A19-92E0-2EEF8E3A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8881-E303-466B-84FB-0E525B10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AA5A8-AB1A-4FAF-8352-0B92E20A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DACC8-A384-46FB-BB48-2933C944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98591-3EA4-4BD8-8136-E32089C4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5D4AE-2EE9-45C2-AE0F-7811F8D0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186A-30B9-46F7-A9DA-7A092AA5682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8C15-E10D-4F05-985A-76F0F7AC902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EF66-3E88-4D0D-87D1-E781621CEEE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1B19-69AF-4729-88D5-97343EC22DF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AA67-8492-4DA9-AD2D-11CC9A63505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C87E-0A79-4514-AE21-D7641CA6E32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116F-D9B8-47E0-8F3C-420355051DF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F4E5-3F74-478D-AE73-F52447A6AB3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E76A-9EAC-4793-A7DA-B26A87EA2A0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1F5B-1282-4194-A69E-21DDC560F96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FA3D-C6F6-43EB-8D2A-DC048826D9A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D004-3CEA-4BCD-8051-156CF83097C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4CE9-A79E-4441-ABE6-1F5788162F2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BE92-5902-4EF2-957C-2A53C3944AA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14D3-BB10-49B6-9064-515F8CB0D0A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1784-B836-40AA-8D7A-B88EA682AB7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0D0D-5B3D-4C21-93DF-1A363244CB8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C0C3-6FE2-4528-90D4-4CD471772E5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34AD-DDE3-46B2-A6CA-FD3DA5F4A0D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C221-A252-4C61-961F-E4606A37E3D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7A13-96E9-426D-8C13-5EA9A7F13D3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5F90-7CBA-49F2-B4C4-2692B3BFDD7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E1E3-C96C-4192-8933-E43EE197B97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CCF9-8EE7-4489-8DA2-9420714CCF8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AE23-FD6B-40B5-B46F-E35A80BCD8D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24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400"/>
            </a:b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</a:t>
            </a: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aspekty merytorycz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ymagane umowy podwykonawcze n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diagnosty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laboratoryjne w tym mikrobiologi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  transport sanitarn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warunkach domowych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ealizowane są w ramach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pacjentów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dzieci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ielęgniarskiej opieki długoterminowej domow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51C7-E5F5-4DB6-8352-F94F682CA6E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Wymagane warunki do realizacji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4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i realizacji świadczeń gwarantowanych </a:t>
            </a:r>
            <a:br>
              <a:rPr sz="2800"/>
            </a:b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 zakresu świadczeń pielęgnacyjnych i opiekuńczych w ramach opieki długoterminow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0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9CB2-CE5B-474A-99E7-786B204D8AB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magania dotyczą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liczby i kwalifikacji personelu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sprzętu medycznego i pomocniczego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ów lokalowych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innych warunków udzielania świadczeń gwarantowanych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9AEA-FE89-420F-A7FD-346F0912CB0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CB29-BA22-42DA-9A55-2494ABD9E9E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849240" y="1628640"/>
          <a:ext cx="7991640" cy="446436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28520" y="1484280"/>
            <a:ext cx="957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b87d6"/>
                </a:solidFill>
                <a:latin typeface="Candara"/>
              </a:rPr>
              <a:t>Personel – wymagania, lekarze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Przy zakresie obowiązków obejmującym badanie pacjentów nie mniej niż 2 razy w tygodniu i porad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a wezwanie w razie potrzeby – udziela świadczeń w łącznym wymiarze </a:t>
            </a: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1 etatu przeliczeniowego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na 35 łóżek (równoważnik 1 etatu przeliczeniowego na 35 łóżek</a:t>
            </a:r>
            <a:r>
              <a:rPr b="1" lang="pl-PL" sz="1600" spc="-1" strike="noStrike">
                <a:solidFill>
                  <a:srgbClr val="ff0000"/>
                </a:solidFill>
                <a:latin typeface="Candara"/>
              </a:rPr>
              <a:t>)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, przy czym w wymiarze tym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uwzględ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cząstkowe etaty przeliczeniowe lekarza specjalisty w dziedzinie: chorób wewnętrznych lub medycyn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rodzinnej, lub medycyny ogólnej, lub chirurgii ogólnej, lub geriatrii, lub gerontologii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 oraz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zapew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konsultację specjalistyczną przez co najmniej lekarza specjalistę psychiatrii oraz neurologii lub cząstkow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etaty przeliczeniowe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1) lekarza ze specjalizacją I stopnia w dziedzinie: chorób wewnętrznych lub medycyny ogólnej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geriatrii, neurologii, psychiatrii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2) lekarza w trakcie specjalizacji z dziedziny: chorób wewnętrznych lub medycyny rodzinnej, lub geriatrii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eurologii, psychiatrii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(aktualna ocena pacjenta, dokonywana nie mniej niż dwa razy w tygodniu, potwierdzana jest datą, pieczątką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i podpisem osoby przeprowadzającej badania kontrolne)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79D9-CA15-4CD4-8B6F-E944B94DDEC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b87d6"/>
                </a:solidFill>
                <a:latin typeface="Candara"/>
              </a:rPr>
              <a:t>Personel – wymagania, pielęgniarki : kwalifikacje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Z ukończoną specjalizacją, kursem kwalifikacyjnym lub w trakcie odbywania tych specjalizacji lub kursów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1) w dziedzinie opieki długoterminowej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2) w dziedzinie pielęgniarstwa przewlekle chorych i niepełnosprawnych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3) w dziedzinie pielęgniarstwa zachowawcz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4) w dziedzinie pielęgniarstwa 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5) w dziedzinie pielęgniarstwa środowiskow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6) w dziedzinie pielęgniarstwa środowiskowo-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7) w dziedzinie pielęgniarstwa geriatrycz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8) w dziedzinie pielęgniarstwa opieki paliatywnej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9) specjalistycznych w zakresie opieki paliatywnej, lub w trakcie odbywania tych kursów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łącznie 25% czasu pracy ogółu pielęgniarek udzielających świadczeń u danego świadczeniodawcy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3E86-EB10-4260-B449-7C948BCE77F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a) rozpoczęła po dniu 30 września 2012 r. studia wyższe z zakresu fizjoterapii obejmujące co najmniej 2435 godzin kształcenia w zakresie fizjoterapii i uzyskała tytuł licencjata lub dodatkowo co najmniej 1440 godzin kształcenia w zakresie fizjoterapii i uzyskała tytuł magistra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b) rozpoczęła po dniu 31 grudnia 1997 r. studia wyższe na kierunku fizjoterapia zgodnie ze standardami kształcenia określonymi w odrębnych przepisach i uzyskała tytuł licencjata lub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) rozpoczęła przed dniem 1 stycznia 1998 r. studia wyższe na kierunku rehabilitacja ruchowa i uzyskała tytuł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d) rozpoczęła przed dniem 1 stycznia 1998 r. studia wyższe w Akademii Wychowania Fizycznego i uzyskała tytuł magistra oraz ukończyła specjalizację I lub II stopnia w dziedzinie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e) rozpoczęła przed dniem 1 stycznia 1980 r. studia wyższe na kierunku wychowanie fizyczne i uzyskała tytuł magistra na tym kierunku oraz ukończyła w ramach studiów dwuletnią specjalizację z zakresu gimnastyki leczniczej lub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f) rozpoczęła przed dniem 1 stycznia 1980 r. studia wyższe na kierunku wychowanie fizyczne i uzyskała tytuł magistra na tym kierunku oraz ukończyła trzymiesięczny kurs specjalizacyjny z rehabilitacji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g) ukończyła szkołę policealną publiczną lub niepubliczną o uprawnieniach szkoły publicznej i uzyskała tytuł zawodowy technik fizjoterapii, zwana dalej „osobą prowadzącą fizjoterapię”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Candara"/>
              </a:rPr>
              <a:t>udziela świadczeń w łącznym wymiarze 2 etatów przeliczeniowych na 35 łóżek (równoważnik 2 etatów przeliczeniowych na 35 łóżek)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– </a:t>
            </a: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zakładach opiekuńczych dla świadczeniobiorców będących w stanie wegetatywnym (którzy nie są </a:t>
            </a:r>
            <a:br>
              <a:rPr sz="1400"/>
            </a:b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stanie przełykać i są karmieni przez zgłębnik lub gastrostomię lub jejunostomię lub pozajelitowo),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a którzy w ocenie skalą Barthel otrzymali „0” punktów – udziela świadczeń w łącznym wymiarze ¼ etatu przeliczeniowego na 1 łóżko (równoważnik ¼ etatu przeliczeniowego na 1 łóżko)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F128-38A1-4D2C-8BF7-503AAE43653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sycholog lub psycholog posiadający tytuł specjalisty w dziedzinie psychologii klinicznej – udziel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świadczeń w łącznym wymiarze 1/2 etatu przeliczeniowego na 35 łóżek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o dniu 30 września 2012 r. i ukończyła studia wyższe w zakresie logopedii, obejmujące co najmniej 800 godzin kształcenia w zakresie logopedii i uzyskała tytuł magistra, lub ukończyła studia wyższe i uzyskała tytuł magistra oraz 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grudnia 1998 r. i ukończyła studia wyższe na kierunku albo w specjalności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ogopedia obejmujące co najmniej 800 godzin kształcenia w zakresie logopedii i uzyskała tytuł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icencjata lub magistra na tym kierunku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rozpoczęła po dniu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rozpoczęła przed dniem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, zwana dalej „logopedą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23D8-F7EE-4877-A775-17ADA51E440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andara"/>
              </a:rPr>
              <a:t>Wymagania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9934-DB91-4AFF-889A-65455C69E3A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ukończyła studia wyższe na kierunku lub w specjalności terapia zajęciowa, obejmujące co najmniej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3000 godzin kształcenia, w tym 2000 godzin w grupie treści podstawowych i kierunkowych obejmujących wiedzę z zakresu teorii i technik terapeutycznych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ukończyła szkołę policealną publiczną lub niepubliczną o uprawnieniach szkoły publicznej i uzyskała tytuł zawodowy terapeuty zajęciowego lub dyplom potwierdzający kwalifikacje zawodowe w zawodzie terapeuty zajęciowego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ukończyła przed dniem wejścia w życie rozporządzenia szkołę policealną publiczną lub niepubliczną </a:t>
            </a:r>
            <a:br>
              <a:rPr sz="1500"/>
            </a:b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 uprawnieniach szkoły publicznej i uzyskała tytuł zawodowy w zawodzie instruktor terapii zajęciowej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ukończyła przed dniem 1 października 2011 r. studia wyższe w specjalności terapia zajęciowa, obejmujące co najmniej 1665 godzin kształcenia przygotowującego do wykonywania zawodu terapeuty zajęciowego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e) rozpoczęła po dniu 30 sierpnia 2012 r. studia wyższe w zakresie terapii zajęciowej, obejmujące co najmniej 2000 godzin w grupie treści podstawowych i kierunkowych obejmujących wiedzę z zakresu teorii i technik terapeutycznych i uzyskała co najmniej tytuł licencjata, zwana dalej „terapeutą zajęciowym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500" spc="-1" strike="noStrike" u="sng">
                <a:solidFill>
                  <a:srgbClr val="073e87"/>
                </a:solidFill>
                <a:uFillTx/>
                <a:latin typeface="Candara"/>
              </a:rPr>
              <a:t>udziela świadczeń w łącznym wymiarze 1/2 etatu przeliczeniowego na 35 pacjentów uczestniczących w terapii w ciągu tygodni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D9A5-A781-4485-939D-322679F9F53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puszcza się możliwość realizacji świadczeń przez osobę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rzed dniem 1 września 2012 r. i ukończyła zasadniczą szkołę zawodową publiczną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niepubliczną o uprawnieniach szkoły publicznej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sierpnia 2012 r. i ukończyła kwalifikacyjny kurs zawodowy lub ukończyła szkołę policealną publiczną lub niepubliczną o uprawnieniach szkoły publicznej i uzyskała dyplom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otwierdzający kwalifikacje zawodowe w zawodzie opiekun medyczny, posiadająca kwalifikacje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 wykonywania czynności w zakresie podstawowej pielęgnacji chorych i osób niesamodzielnych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zwaną dalej „opiekunem medycznym”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2F5F-0FC4-4E23-975B-8CAB189D93F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08BF-1F80-4B42-95C4-038E45C2682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15800" y="907920"/>
          <a:ext cx="9001080" cy="472140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dodatkowy sprzęt medyczny i pomocniczy dla świadczeniobiorców w stanie wegetatywnym, którzy w ocenie skalą Barthel otrzymali „0” punktów, znajdujący się w miejscu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zestaw z jednorazowym sprzętem do pielęgnacji tracheostomii, gastrostomii, konikotomi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dla dzieci i młodzieży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67E8-4D2B-4CEC-A841-FFB8A74B34A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przeliczeniowe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1EA2-4591-4239-BE2B-FFDA5CB4341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415800" y="907920"/>
          <a:ext cx="9001080" cy="411192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</a:t>
            </a:r>
            <a:br>
              <a:rPr sz="3200"/>
            </a:b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dla pacjentów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2D4A-69BE-4C96-9944-32857AEEA3A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pacjentów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Obwieszczenie Ministra Zdrowia z dnia 22 września 2015 r. w sprawie ogłoszenia jednolitego tekstu rozporządzenia Ministra Zdrowia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 sprawie świadczeń gwarantowanych z zakresu świadczeń pielęgnacyjnych i opiekuńczych w ramach opieki długoterminowej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(Dz. U. z 2015 r., Nr  1658 )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kaz gwarantowanych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magane warunki do ich realizacj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4C33-6320-4F1B-BD73-420F3ABF40D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1193-2B7C-4E1E-BC87-AB8EBA1D6FA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Świadczenia w zakładzie pielęgnacyjno-opiekuńczym/opiekuńczo-leczniczym dla dzieci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298F-91FF-4CB6-BD78-D95FFD8672C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           dla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AB0F-77D2-43C5-950F-2282F3CFF8A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zespołu długoterminowej opieki domowej dla dorosłych i dzieci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333000"/>
            <a:ext cx="8915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F3B7-FB3A-4ED8-9592-B6C4A87BA65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849240" y="1413000"/>
          <a:ext cx="7991640" cy="295272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579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 i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81B3-A32B-47EA-981A-F94C736A946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560520" y="1417680"/>
          <a:ext cx="8713800" cy="4387680"/>
        </p:xfrm>
        <a:graphic>
          <a:graphicData uri="http://schemas.openxmlformats.org/drawingml/2006/table">
            <a:tbl>
              <a:tblPr/>
              <a:tblGrid>
                <a:gridCol w="3475080"/>
                <a:gridCol w="2641320"/>
                <a:gridCol w="2597400"/>
              </a:tblGrid>
              <a:tr h="441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, dzieci i młodzieży wentylowanych mechaniczni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398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 </a:t>
                      </a: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wyposażony w: – akumulator pozwalający na: – –  swobodne korzystanie z wózka inwalidzkiego, – –  podtrzymanie czynności respiratora do 4 godzin, – filtry powietrza w układzie, – komplet parametrów nastawnych, – 2 alarmy: rozłączenia układu i nadmiernego ciśnienia w drogach oddechowych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pielęgnacji tracheostomi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niezbędny do obsługi respiratora, w tym jednorazowego uży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rzenośny aparat EK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udzielania pierwszej pomocy lekarskie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140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wyposażony w: –  podstawowy sprzęt i materiały jednorazowego użytku, w tym zestaw do wykonania iniekcji, przetaczania płynów infuzyjnych, zestaw do wykonywania opatrunków, zestaw podstawowych narzędzi chirurgicznych, pakiet ochronny, – zestaw do założenia i usunięcia zgłębnika oraz do karmienia przez zgłębnik, stomię, – zestaw do karmienia przez przetokę i pielęgnacji przetoki, – zestaw do założenia, płukania i usunięcia cewnika, – pakiet do dezynfekcji, – zestaw przeciwwstrząsowy, – glukometr, – termometr, – aparat do pomiaru ciśnienia krwi, – zestaw do wykonywania zabiegów i czynności higieniczno-pielęgnacyjnych, – środki ochrony osobistej: fartuchy, maseczki, rękawice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96C1-6283-41DE-A103-33501CDDF63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992160" y="2752560"/>
          <a:ext cx="7777080" cy="21891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95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są realizowane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warunkach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 stacjonarnych;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 domowych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5B99-199D-4C68-8069-16F6FEAF98A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pieka w domu świadczeniobiorcy wymagającego stosowania 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)  porady lekarskie w domu świadczeniobiorcy nie mniej niż 1 raz w tygodniu – dla każdego świadczeniobiorcy oraz stała dostępność w systemie zmianowym albo dyżurowym pod telefonem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2) opieka w domu świadczeniobiorcy wymagającego stosowania nieinwazyjnej wentylacji mechanicznej, w przypadku świadczeniobiorców wentylowanych powyżej 16 godzin na dobę, w przypadku świadczeniobiorców z przewlekłą niewydolnością oddechową na podłożu chorób nerwowo-mięśniowych oraz w przypadku dzieci i młodzieży do ukończenia 18. roku życia bez względu na czas trwania nie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3) opieka w domu świadczeniobiorcy wymagającego stosowania nieinwazyjnej wentylacji mechanicznej, w przypadku świadczeniobiorców wentylowanych od 8 do 16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2 tygodnie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izyty pielęgni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4) opieka w domu świadczeniobiorcy wymagającego stosowania nieinwazyjnej wentylacji mechanicznej, w przypadku świadczeniobiorców wentylowanych poniżej 8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kwartał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1 raz na kwartał – dla każdego świadczeniobiorcy oraz stała dostępność w systemie zmianowym albo dyżurowym pod telefonem (maksymalna częstotliwość i ogólna liczba wizyt domowych, o których mowa w lit b, jest ustalana indywidualnie przez lekarza udzielającego świadczeniobiorcy świadczeń gwarantowanych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Pielęgniarska opieka długoterminowa domow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822F-196A-41B7-942F-0C597CC0876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849240" y="1989000"/>
          <a:ext cx="7991640" cy="12956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698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na 6 pacjentów pod różnymi adresami lub 12 pacjentów pod tym samym adres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7A90-0167-4451-9410-5BCB3F34BD9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992160" y="1646280"/>
          <a:ext cx="7777080" cy="3565440"/>
        </p:xfrm>
        <a:graphic>
          <a:graphicData uri="http://schemas.openxmlformats.org/drawingml/2006/table">
            <a:tbl>
              <a:tblPr/>
              <a:tblGrid>
                <a:gridCol w="4417920"/>
                <a:gridCol w="3359160"/>
              </a:tblGrid>
              <a:tr h="569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995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 wyposażony w: 1) podstawowy sprzęt i materiały jednorazowego użytku, w tym zestaw do wykonania iniekcji, przetaczania płynów infuzyjnych, zestaw do wykonywania opatrunków, zestaw podstawowych narzędzi chirurgicznych, pakiet ochronny; 2) zestaw do założenia i usunięcia zgłębnika oraz do karmienia przez zgłębnik, stomię; 3) zestaw do karmienia przez przetokę i pielęgnacji przetoki; 4) zestaw do założenia, płukania i usunięcia cewnika; 5) pakiet do odkażania i dezynfekcji; 6) zestaw do pielęgnacji tracheostomii; 7) zestaw przeciwwstrząsowy; 8) maseczka twarzowa do prowadzenia oddechu zastępczego; 9) glukometr; 10) termometr; 11) zestaw do wykonywania zabiegów i czynności higieniczno-pielęgnacyjnych; 12) środki ochrony osobistej: fartuchy, maseczki, rękawice; 13) aparat do pomiaru ciśnienia krwi; 14) stetoskop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3190-C770-4E94-A234-834E6459B1F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776160" y="2752560"/>
          <a:ext cx="8353440" cy="204480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89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stępność od poniedziałku do piątku w godzinach od 800 do 2000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)   dostępność w soboty i dni ustawowo wolne od pracy – w medycznie uzasadnionych przypadkach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)   wizyty – nie mniej niż 4 razy w tygodniu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4)   liczba świadczeniobiorców objętych opieką, przebywających pod różnymi adresami zamieszkania – równoważnik 1 etatu przeliczeniowego – pielęgniarka nie może jednoczasowo opiekować się więcej niż 6 świadczeniobiorcami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)   liczba świadczeniobiorców objętych opieką, przebywających pod tym samym adresem zamieszkania (np. w domu pomocy społecznej) – równoważnik 1 etatu przeliczeniowego – pielęgniarka nie może jednoczasowo opiekować się więcej niż 12 świadczeniobiorcami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862aa"/>
                </a:solidFill>
                <a:latin typeface="Times New Roman"/>
              </a:rPr>
              <a:t>PROPORCJONALNE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WYLICZANIE CZASU PRACY DANEGO PERSONELU WZGLĘDEM LICZBY ŚWIADCZEŃ WSKAZANEJ W OFERCI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(np. punkt w pielęgniarskiej opiece długoterminowej domowej = 1 osobodzień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272880" y="1484280"/>
            <a:ext cx="9360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 – zakresy kontraktowa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50" name="Picture 5" descr=""/>
          <p:cNvPicPr/>
          <p:nvPr/>
        </p:nvPicPr>
        <p:blipFill>
          <a:blip r:embed="rId1"/>
          <a:stretch/>
        </p:blipFill>
        <p:spPr>
          <a:xfrm>
            <a:off x="928800" y="2376360"/>
            <a:ext cx="8048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944280" y="2060280"/>
            <a:ext cx="8026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indywidualnym harmonogramie pracy; w typie udzielania świadczeń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wskazujemy „praca w miejscu”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(a nie wizyty domowe, tryb zarezerwowany dla podstawowej opieki zdrowotnej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harmonogram pracy komórki organizacyjnej musi być wypełniony indywidualnymi harmonogramami pracy pielęgniare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poniedziałek-piątek od 08:00 do 20:0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sobota-niedziela (np. od 08:00 do 10:00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944280" y="2133720"/>
            <a:ext cx="802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ewidencjonowanie kompetencji pielęgniarskich: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rzypadku wykazywania w ofercie pielęgniarek, będących w trakcie uzyskiwania wymaganych kwalifikacji  należy wskazać kompetencję 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o kodz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0303 - pielęgniarka w trakcie szkolenia specjalizacyjnego/ kursu kwalifikacyjnego/kursu specjalistyczneg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F145-C52C-47D9-A462-BE3343B4FCD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272880" y="1601640"/>
          <a:ext cx="9402840" cy="4635720"/>
        </p:xfrm>
        <a:graphic>
          <a:graphicData uri="http://schemas.openxmlformats.org/drawingml/2006/table">
            <a:tbl>
              <a:tblPr/>
              <a:tblGrid>
                <a:gridCol w="1513080"/>
                <a:gridCol w="1582560"/>
                <a:gridCol w="1873440"/>
                <a:gridCol w="2473200"/>
                <a:gridCol w="1960560"/>
              </a:tblGrid>
              <a:tr h="45900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ymagana dostępność komórek organizacyjny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03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764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poniedział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piąt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godzinach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8:00 do 20:00 oraz w soboty i dni ustawowo wolne od pracy –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medycznie uzasadnionych przypadk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5E77-81D8-4257-822E-C5CDD532917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344520" y="2133720"/>
          <a:ext cx="9361440" cy="3517920"/>
        </p:xfrm>
        <a:graphic>
          <a:graphicData uri="http://schemas.openxmlformats.org/drawingml/2006/table">
            <a:tbl>
              <a:tblPr/>
              <a:tblGrid>
                <a:gridCol w="1488960"/>
                <a:gridCol w="1525680"/>
                <a:gridCol w="1527120"/>
                <a:gridCol w="2009880"/>
                <a:gridCol w="2809800"/>
              </a:tblGrid>
              <a:tr h="3142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rsonel: harmonogramy p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90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młodzieży 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monogram godzinowy w rozbiciu na dni tygod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2520" y="2349000"/>
            <a:ext cx="9433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Od 1 lipca 2018 r. obowiązuj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nr 45/2018/DSOZ Prezesa Narodowego Funduszu Zdrowia z dnia 30 maja 2018 r. w sprawie określenia warunków zawierania i realizacji umów w rodzaju świadczenia pielęgnacyjn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przedmiot postępowania w sprawie zawarcia umów </a:t>
            </a:r>
            <a:br>
              <a:rPr sz="2800"/>
            </a:b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o udzielanie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szczegółowe warunki umów o udzielanie świadczeń opieki zdrowotnej (wzór umowy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8668-9B53-4790-9ACE-D5F1BE93F21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1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Katalog świadczeń pielęgnacyjnych i opiekuńcz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dla świadczeń gwarantowan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C4B8-2E10-462C-9BD7-43CCEBB80CF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5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E79-0E6A-43AE-85E7-F0710F9BACC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5" descr=""/>
          <p:cNvPicPr/>
          <p:nvPr/>
        </p:nvPicPr>
        <p:blipFill>
          <a:blip r:embed="rId1"/>
          <a:stretch/>
        </p:blipFill>
        <p:spPr>
          <a:xfrm>
            <a:off x="200160" y="1413000"/>
            <a:ext cx="9577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8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7546-979B-4D28-8897-5B990FDCD79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0" y="2095560"/>
            <a:ext cx="984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1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511D-7332-4420-9766-38F07B3DC88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1"/>
          <a:stretch/>
        </p:blipFill>
        <p:spPr>
          <a:xfrm>
            <a:off x="200160" y="2400480"/>
            <a:ext cx="957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2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E38D-57E7-4ABF-B9A9-918604C233F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272880" y="1844640"/>
          <a:ext cx="9360000" cy="2989440"/>
        </p:xfrm>
        <a:graphic>
          <a:graphicData uri="http://schemas.openxmlformats.org/drawingml/2006/table">
            <a:tbl>
              <a:tblPr/>
              <a:tblGrid>
                <a:gridCol w="1960560"/>
                <a:gridCol w="1748160"/>
                <a:gridCol w="1519200"/>
                <a:gridCol w="2325600"/>
                <a:gridCol w="1806480"/>
              </a:tblGrid>
              <a:tr h="4366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Kody resortowe komórek organizacyjny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81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/5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1/5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4" name="Prostokąt 6"/>
          <p:cNvSpPr/>
          <p:nvPr/>
        </p:nvSpPr>
        <p:spPr>
          <a:xfrm>
            <a:off x="344520" y="5300640"/>
            <a:ext cx="914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f2b20"/>
                </a:solidFill>
                <a:latin typeface="Arial"/>
                <a:ea typeface="Arial"/>
              </a:rPr>
              <a:t>*/ ROZPORZĄDZENIE Ministra Zdrowia z dnia 17 maja 2012 r. w sprawie systemu resortowych kodów identyfikacyjnych oraz szczegółowego sposobu ich nadawania (Dz.U. z 2012 r. poz. 594), zmienione rozporządzeniem Ministra Zdrowia z dnia 27 kwietnia 2017 r. w sprawie systemu resortowych kodów identyfikacyjnych oraz szczegółowego sposobu ich nadawania (Dz.U. z 2017 r. poz. 99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4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E456-6027-42D7-AF81-91C2E0F100E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2" descr=""/>
          <p:cNvPicPr/>
          <p:nvPr/>
        </p:nvPicPr>
        <p:blipFill>
          <a:blip r:embed="rId1"/>
          <a:stretch/>
        </p:blipFill>
        <p:spPr>
          <a:xfrm>
            <a:off x="128520" y="2066760"/>
            <a:ext cx="9648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7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2F7E-B2E2-4F70-B00E-C0A06B88AB5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2" descr=""/>
          <p:cNvPicPr/>
          <p:nvPr/>
        </p:nvPicPr>
        <p:blipFill>
          <a:blip r:embed="rId1"/>
          <a:stretch/>
        </p:blipFill>
        <p:spPr>
          <a:xfrm>
            <a:off x="57240" y="2371680"/>
            <a:ext cx="9720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Wzory oświadcze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WEWNĘTRZN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DYREKTORA ŚLĄSKIEGO ODDZIAŁU WOJEWÓDZKIEGO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ARODOWEGO FUNDUSZU ZDROWIA W KATOWICACH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r 179/2015  z dnia 5 listopada 2015  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wprowadzenia zasad weryfikacji oferentów uczestniczących w postępowaniach poprzedzających zawarcie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5" descr=""/>
          <p:cNvPicPr/>
          <p:nvPr/>
        </p:nvPicPr>
        <p:blipFill>
          <a:blip r:embed="rId1"/>
          <a:stretch/>
        </p:blipFill>
        <p:spPr>
          <a:xfrm>
            <a:off x="2079720" y="549360"/>
            <a:ext cx="574668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2" descr=""/>
          <p:cNvPicPr/>
          <p:nvPr/>
        </p:nvPicPr>
        <p:blipFill>
          <a:blip r:embed="rId1"/>
          <a:stretch/>
        </p:blipFill>
        <p:spPr>
          <a:xfrm>
            <a:off x="2079720" y="214200"/>
            <a:ext cx="574668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2079720" y="404640"/>
            <a:ext cx="574668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2" descr=""/>
          <p:cNvPicPr/>
          <p:nvPr/>
        </p:nvPicPr>
        <p:blipFill>
          <a:blip r:embed="rId1"/>
          <a:stretch/>
        </p:blipFill>
        <p:spPr>
          <a:xfrm>
            <a:off x="2079720" y="1274760"/>
            <a:ext cx="5746680" cy="5259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Kontakt telefoniczny w sprawie pytań merytoryczny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nr telefonu: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	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32/ 735 19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44680" y="352440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pis komórki / miejsca realizacji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na obszarz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ontraktowania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rejestrze podmiotów wykonujących działalność lecznicz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2"/>
          <p:cNvSpPr/>
          <p:nvPr/>
        </p:nvSpPr>
        <p:spPr>
          <a:xfrm>
            <a:off x="631800" y="1916280"/>
            <a:ext cx="8785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warunkach stacjonarnych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ealizowane są w 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osób dorosłych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wentylowanych mechanicznie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dzieci i młodzieży do ukończenia 18. roku życia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lub dzieci wentylowanych mechaniczn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Zakłady opiekuńcze to:  zakłady opiekuńczo-lecznicze i pielęgnacyjno-opiekuńcze,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o których mowa w ustawie z dnia 15 kwietnia 2011 r. o działalności leczniczej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(tj. Dz. U. z 2018 r. poz. 2190)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2D07-7ECB-4682-AA7F-4E9108B4DC7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44160" y="2205000"/>
            <a:ext cx="9288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 zakresie koniecznym do wykonania świadczeń gwarantowanych świadczeniodawca zapewnia świadczeniobiorcy nieodpłatnie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1)  badania diagnostyczne;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2)  leki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6B26-4CE3-4359-9246-1E3ADD34FE8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36Z</dcterms:modified>
  <cp:revision>1195</cp:revision>
  <dc:subject/>
  <dc:title>Slajd 1</dc:title>
</cp:coreProperties>
</file>