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AFEAD2-5711-4676-A8D9-6490DC9ED34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75ED10-C34B-4825-87FC-FFAD5318F06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13F3D0F-78CB-4002-B079-953543C01E9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0A1AB95-813E-405E-830A-7542E1EAFCC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3940BE5-63D1-4614-8EB2-795E2DDBE082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F3DA0C9-8D19-4998-A4AF-A90EB801D744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CA52B19-D099-4670-886A-D98500BA27F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798D2C3-6FF2-4CC3-8F82-8C16D2334BC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662C6BD-4217-4617-84F7-59FD37F5E4C3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A5D3FFD-04CB-4516-944A-59684BDD0D3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CAD4AAF-674F-4722-B4AA-AF9E6BBB4D83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1E6DBEF-C366-4675-A3BA-DC40EB544F1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4F86E1D-DB11-436A-A5F9-0A051860195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96122EC-680E-4AAE-B1A3-FFFCC2A2965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F574255-B7CD-4E24-9100-B57EE8F4047D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B8BC989-0D82-4BA7-ABEA-BAC7EF62690D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13D28F1-102E-44A7-A03A-7CE6DCD5A003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1459CEC-5679-4D60-ADE1-661CE860879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0B47986-2BAC-4F56-AAB4-DAE0599FF60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97805A0-5A76-4746-A57F-13AED8F8D1B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D539-9868-4A2D-8251-4C9BED0FF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5FB3-5AB3-4800-B022-4F89460C8D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21F89-C20D-4AD0-A4CD-EEC226F4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FCB93-CAE3-4CB5-95C3-2B4D4EC9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CE6BF-BB1B-4DEB-89AF-EB37D31D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91101-4F74-493F-9227-BEA0CA61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582B-A2B3-4E29-9994-5161F27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BB0C6-9DF4-4BD3-8E25-5BEDAB3F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5F52B-F366-4ED0-957A-76F01869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85FDC-FB41-45CD-8E45-8D1DA602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EF9B2-AE87-4BA7-B53B-B2DEC993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15C75-106B-44DE-AEA4-5EDBCC82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F84D-D56C-4501-8859-DB3FC351065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E83FE-6F23-4E59-8232-8F540438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BEA3E-8B57-4187-815F-07A72B6B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0B665-A682-41A8-88C8-0FBD9E04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0364C-0819-4162-92CA-8CE89D0A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1CAD7-F322-4F32-BFD7-7B6C822F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75DB9-2A99-4ED7-8D2F-F6F17FF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F798D-D1B1-4D31-B93B-A7645D01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35C27-AEC0-4438-9353-A147DE97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7EBE2-3B69-4DA8-BAB1-493210FF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42237-D052-445D-BCB3-36ECF10E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BCFA-A272-4DAD-9DBA-68F2168093A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09C75-357F-4B39-829E-5A038493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E16BD-337B-4FE3-B79A-D88DCD97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403C9-0BD6-4C17-B7D6-3E5C74AA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B3AA2-A851-4EE9-8ADF-23EF3D99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1FBAC-1C95-4AF9-8A37-CD2B5AB8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4AB59-67A4-4E3E-B17F-D7232E72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340BA-D1FC-4928-B4E9-C715ADB4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85A28-7744-4C8D-B85D-B1C3443E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BF9FD-A479-452B-9C45-389BC34F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6BA40-CE8F-47D2-9F71-5F0A960E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282BB-5088-4D1C-9B0F-C0FE0458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061F0-5CBB-4587-9FB7-DAE87651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22543-2FED-4210-8D8A-72BF6F0A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D73AE-85C9-4B44-AA98-D32EBEBF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1125E-071D-4EE3-BCE9-02FFD1A4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85AF4-91CF-40A4-A627-72537AC2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73140-C3E9-48B9-93F3-8F27DE40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2C51B-0700-4DE5-B3D4-D230575C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7CFF0-65FE-4D42-ACCE-D24F9445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95800-5628-4900-A68D-7B112A2C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B3BD0-A29D-419A-8C7D-FFFE3BC3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B41FC-BB07-4BA4-B65E-FADC3A88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BEE4B-DA0E-4E87-97DC-97A74C65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AB3EA-A39A-43FC-B4B9-947B37CD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62BDA-D861-405B-B72D-5C285055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FD693-CB91-4E69-AE5C-5631D45E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8C773-8BE4-4079-865E-A3C6CD42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D9AD6-22BE-45D4-A83B-AC3D6825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EFABE-152D-4931-A7F1-1CFB221E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DC9E3-F8E3-49B0-9FE8-5B4C16FC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7F8D6-2125-42C9-A38C-CC7BC57F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F1974-5CB2-40CC-8631-139D3A90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77DAF-E6BA-4A54-9BA2-20A998D9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85F95-8977-4C06-91A4-A14E721B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5B505-4100-45FB-A493-07F3C045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0F131-2AB0-4BD8-80D7-75F69E98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D2425-4B47-424D-B372-B85B3E95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F5D13-4BB0-4273-A81F-F974CB68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5C87B-705C-4810-AA84-0AB5E3BF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0B135-7F96-4407-8270-46FB8D38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30E35-7E4B-4FFA-B936-5B977370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0791C-07D5-4BCE-AA0E-DADC68DB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AD69B-0853-4A64-BE93-4FDA928F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03F72-4D45-488E-8FA7-81588B2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294AF-9027-4AA3-8C87-55F8CD95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8E83D-CE7D-44ED-861B-81B86D5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C1B0E-9B58-4EB1-B13C-C4B41BCF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6AC78-72C3-45D0-AFF7-D0E88F54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572F0-1BDF-4C4D-B7FA-E84284A1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F7D83-6110-4CA5-A3E5-A331AB02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61C1A-DBD8-4EE8-B58D-4ECF8FFA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1C8D0-A78D-4896-8AB1-ACA3D593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805BC-FBE9-4362-968B-4CB7283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58E6B-1893-4EE0-AC33-44FCB4BA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DA80A-4BA0-4EFB-A9C1-244755D4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38858-6672-4285-BB6D-3B03898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8C15E-643D-4429-9DA7-B5CEB5CC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F329D-5A53-463D-852F-EE5F7AB3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DDE6E-BC87-4290-B435-CB80C399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C9E07-F8CF-471B-A901-1A738028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22E0A-8CEF-4E3F-A23D-D9F0D58A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45F81-4C88-4105-BCBC-AB72FCED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EEF5C-5D3F-46AC-901E-B150C255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C1CE6-406E-4C72-99F6-576121F5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D3843-DFB9-4C6E-80BA-3053E3A9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33691-4713-4CFB-85FF-CB17765C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1F6B4-2CC2-4BCB-956F-C2EA400C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6B6E3-EF5D-49A1-A7B5-BCE9BB45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B6F1D-69A9-4A85-A5AF-D8102B3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6C5BF-A29C-46FD-B6D6-A733E08A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8143B-52EF-4295-B9C2-41736841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47CEE-A66C-4F4C-9E86-CDAAB956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75864-8782-407C-866E-12CFF415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BA8CC-B895-43A3-89D7-2EBA8EA3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0DA25-9CB8-400B-AE55-B67830C4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CED4E-19FB-4CDA-823E-36F0F8A9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7443B-9A5E-4F9D-961F-F1E202B8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4687C-1D05-498A-A5E2-6ABDDD92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07BA9-AE82-4316-BC2B-AA154624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1B65A3-4771-4BD3-B36E-DF82A8AA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8FB2-26A0-4E12-A41E-EA98243A8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94138-AA6C-4D9A-9035-575B0D93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AB7D1-DE5C-41EA-A4E0-94D35AB4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DAFD4-5D6D-49ED-9A1A-6C6A7DD2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F9452-E3DF-4FA9-8D47-2251CE6A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900C6-8512-40E6-BB26-E93F40E4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2C9A9D-A489-4C30-AE3F-7CF07F20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8DB7B-91BB-46A2-9177-E90940E1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4B04B-A596-48EF-8F98-C3C6D5A6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242A59-FA4A-4D60-86BA-05A3DA6F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F0C6D-C7F8-413B-8278-253A301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56A85-0D2A-4DD0-B88A-592B83D7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0C1075-A915-4038-83F1-7732974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55799-7522-4F74-A381-B1227350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69152-D8A0-4E97-AA0D-A3792E66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6AE5A-3A9F-44E4-A162-4CE5193A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62EC9-249E-4AF5-875F-02DCEE0C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6E113-FE62-4A6F-AB05-8330A0E6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9836E-AB05-436D-A911-F439A586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8F640-C6F7-4F80-91AE-4F91077A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7599A-8491-455D-A91E-47E5A605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14765-FCE7-4D1E-8CD6-05565835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4122E-04E3-443B-A07B-CBF98573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A6CF-B0E6-495D-8807-5C7FD65146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8450C-0647-4E66-8113-8B748951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FB3F6-CDE3-4E0E-A569-BAFD8DFB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AC353-4E9D-466C-BEA4-A68C9003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EE74C-EC6B-49AE-939C-C218883C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142A2-6CD3-46BA-BAE8-334CAE65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E7D02-49FF-4CC2-B2BC-AD04ACEE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3EA62-26C2-4806-A1F1-A6A71402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CF80-EE25-4C4D-8DD5-3FD4C5AF10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12D70-060A-4147-9AA3-98B315A3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8030-340B-4737-8C9E-A61DBDB7D20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E13B4-783F-49FB-A0FE-A391D7DC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E71B5-C21D-4C6B-97F6-6AE7D91D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81BFC-0452-4632-8004-C75BF549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DAEC0-5829-4B3E-873F-478A9C3C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3DFE9-F317-408B-A6A2-C71297DB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DFF98-1781-4D2A-B7D7-1205BCA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1AD3F-BDAE-4831-A115-BE6CCCC9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77A1B-3CE1-43EB-97B5-67A2A74B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096C9-8B38-4F35-B706-8B6C74AA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45AB3-A827-427F-B925-A3BA351B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5DA7-9DDD-4DA3-84B1-0D159DF0FE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B79A2-7370-4FFF-84CC-B73EC18D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EA4FA-1026-49CF-ACA9-9CB8FAD0B9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79605-5C30-48C5-BF29-FF942096A81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7A77A-460C-4EFF-B99D-E32630F8564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D16C2-74FB-4E28-97CE-57392254AE7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3FB55-3317-410E-A195-B2A21D29A5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0F7A7-F06C-4374-A09A-C933C004A7E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5B2816-608A-4B96-BBD2-D30971B600D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C31707-F66D-401E-880C-FAC0AEA82D5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497808-E6AC-4265-8A73-C397D537E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423B-328C-4F2F-85C0-089964DA53C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20B666-F729-40F8-A1ED-0DC694B4901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B5620-2419-4ECF-B436-5FC55483D2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2DE078-C254-439B-8ECC-F826147962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6F556-43A9-4872-99CD-DDE0E162E54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5A415-1311-4BCB-A744-D9866E1D3F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9D073-A47F-4FDA-8DF1-7E66A4608C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24BAF-F437-4D2C-9E2B-44B8CC50965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2D714-0EB2-41BE-9D74-5B7C06C2608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BE81-3DBD-44E6-943B-13D1D255C19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D386-906B-4FDE-BCFB-18B156054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DF23-CDEC-4FD7-8632-FEB12ADC92B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C6A7-09CE-4ABC-BF45-7322D8F5C0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52D9-838B-40B7-B192-A07D443AA0F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1795-2F59-4064-812C-54201E3884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38C63-850B-4D6F-9086-11FE14AE997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6987-34BB-42FE-AD76-7E0258CCD40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045B5-1417-4552-A449-B5DC68EF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4C379-FDDB-4E38-8D4C-D69C1CDE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D752B-D3D4-4813-BA0B-F3E32329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38DE8-310E-46B3-BDA2-8910414A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279E9-A29A-4C92-9943-6610E72F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43A7-DA2C-4690-992A-9538F248B53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957A6-83F0-46F7-B091-F803E95B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E50D6-A4CC-4F39-AE02-ADFF87D2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96C10-6968-4A51-BBAC-2FAB90F3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0EFB4-3A07-4504-A3F9-0CE13BAD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D86A7-F8FB-435F-9ABA-65A260B2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A4D66-17AC-479A-A1E9-79C19E67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7371-68A6-44BE-B35C-DD6DACCC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1B28A-10D3-4125-B561-3C1E989D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D059E-8DE5-4099-B0B2-325F4883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801AE-BCFD-47C0-B0CF-17C2562D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5DC9-8E16-4845-9425-BD4FE528718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A518-9B4A-4734-94E4-60CE199ED06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E410-A2BA-436B-85AE-C84948E4FE9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7F95-0000-4C24-95C0-F59DA82D8AD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2FDF-2BC8-4AE6-97C3-6E12D60FE60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ABCF-D393-4C0A-8B9F-91A78AD9CBC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572A-57C5-4185-8D7F-E4B7EAB443D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8C6E-2CD9-4F02-A376-97646F2B406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2E62-125C-4D59-8B22-E5D25DB0A40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920" y="85932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080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600" y="74304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440" y="72972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42F5-3FCA-4658-A564-4F2E513576C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3974-29A8-43A5-89DA-BED165115F5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005-1027-40B4-85B5-0E5BD68593A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3389-FA43-4ADA-B990-0772B2D4897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3660-AAF0-479D-9BA0-8F5B5512113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7EDE-BA56-4446-B998-9263075D77F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7181-15D1-4ACE-8C25-F2D56211A3A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3D86-195B-44F7-ACE0-A7FC30CB22E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1248-62DF-4718-AA59-8EA782624E9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D19C-A0E7-417E-A38D-4659A9C0505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ACDE-E866-4A8B-8141-6E65C938FF8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9111-230C-471D-BC7A-FC948ABBF38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1ED5-4D98-4725-B086-46AF193519E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89E8-E11B-477C-9A1B-66FB8978D27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4B3F-C16E-4F48-91A8-DCE479EA8AB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0D08-A299-4BC0-9261-8D47774590B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62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2019  </a:t>
            </a:r>
            <a:br>
              <a:rPr sz="4000"/>
            </a:br>
            <a:br>
              <a:rPr sz="4000"/>
            </a:br>
            <a:r>
              <a:rPr b="0" lang="pl-PL" sz="22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ŚWIADCZENIA PIELĘGNACYJNE I OPIEKUŃCZE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W RAMACH OPIEKI DŁUGOTERMINOWEJ 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oraz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OPIEKA PALIATYWNA I HOSPICYJNA 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aspekty formalno-praw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rostokąt 1"/>
          <p:cNvSpPr/>
          <p:nvPr/>
        </p:nvSpPr>
        <p:spPr>
          <a:xfrm>
            <a:off x="200160" y="1166760"/>
            <a:ext cx="928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14. 1. Oferta w formie pisemnej powinna zawierać następując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kumenty i o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świadczenie oferenta o wpisach do rejestrów, według wzoru stanowiącego załącznik nr 2 do zarządz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w przypadku oferentów wykonujących działalność leczniczą w formie spółki cywil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– kopię umowy spółki lub wyciąg z tej umowy zawierający postanowienie o zasad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albo uchwałę wspólników spółki cywilnej w przedmiocie zasa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lub kopie pełnomocnictw udzielonych przez pozostał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wspólników do prowadzenia spraw spółki wykraczających poza zwykłe czynnośc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unkty 3-5 dotyczą leczenia uzdrowiskowego, rehabilitacji leczniczej i  ratownictwa medycznego (zostały pominięte w tej prezentac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ole tekstowe 1"/>
          <p:cNvSpPr/>
          <p:nvPr/>
        </p:nvSpPr>
        <p:spPr>
          <a:xfrm>
            <a:off x="776160" y="54936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świadczenie oferenta o wpisach do rejestrów, według wzoru stanowiącego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ałącznik nr 2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zarządzenia n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18/2017/DSOZ z dnia 14 marca 2017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rostokąt 4"/>
          <p:cNvSpPr/>
          <p:nvPr/>
        </p:nvSpPr>
        <p:spPr>
          <a:xfrm>
            <a:off x="776160" y="1989000"/>
            <a:ext cx="856944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1424160" y="1285920"/>
            <a:ext cx="684180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ole tekstowe 2"/>
          <p:cNvSpPr/>
          <p:nvPr/>
        </p:nvSpPr>
        <p:spPr>
          <a:xfrm>
            <a:off x="776160" y="701640"/>
            <a:ext cx="8569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lis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innego dokumentu potwierdzającego zawarcie przez oferenta umowy ubezpieczenia odpowiedzialności cywilnej oferenta za szkody wyrządzone w związ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udzielaniem świadczeń w zakresie przedmiotu postępowania na okres obowiązywania umowy;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ferent może złożyć także umowę przedwstępną (promes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lub inny dokument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tym także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świadczenie, stwierdzające, że umowa ubezpieczenia odpowiedzialności cywilnej zostanie zawarta na okres obowiązywania um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ole tekstowe 3"/>
          <p:cNvSpPr/>
          <p:nvPr/>
        </p:nvSpPr>
        <p:spPr>
          <a:xfrm>
            <a:off x="0" y="3068640"/>
            <a:ext cx="884880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dmiotu wykonującego działalność lecznicz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świadczeniodawcy niebędącego podmiotem wykonującym działalność lecznicz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zielającego świadczeń opieki zdrowotnej (Dz. U. z 2011 r., Nr 293, poz. 172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ole tekstowe 2"/>
          <p:cNvSpPr/>
          <p:nvPr/>
        </p:nvSpPr>
        <p:spPr>
          <a:xfrm>
            <a:off x="3844800" y="1133640"/>
            <a:ext cx="17272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ole tekstowe 4"/>
          <p:cNvSpPr/>
          <p:nvPr/>
        </p:nvSpPr>
        <p:spPr>
          <a:xfrm>
            <a:off x="920880" y="1989000"/>
            <a:ext cx="2160360" cy="687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podmiotu wykonującego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ole tekstowe 5"/>
          <p:cNvSpPr/>
          <p:nvPr/>
        </p:nvSpPr>
        <p:spPr>
          <a:xfrm>
            <a:off x="6969240" y="1944720"/>
            <a:ext cx="2087280" cy="885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świadczeniodawcy niebędącego podmiotem wykonującym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2087640" y="189000"/>
            <a:ext cx="5976720" cy="576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bezpieczenia odpowiedzialności cywilnej - med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Łącznik prosty ze strzałką 8"/>
          <p:cNvCxnSpPr/>
          <p:nvPr/>
        </p:nvCxnSpPr>
        <p:spPr>
          <a:xfrm>
            <a:off x="5816520" y="1503000"/>
            <a:ext cx="1153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9" name="Łącznik prosty ze strzałką 10"/>
          <p:cNvCxnSpPr/>
          <p:nvPr/>
        </p:nvCxnSpPr>
        <p:spPr>
          <a:xfrm flipH="1">
            <a:off x="2512440" y="1503000"/>
            <a:ext cx="10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0" name="Łącznik prosty ze strzałką 12"/>
          <p:cNvCxnSpPr/>
          <p:nvPr/>
        </p:nvCxnSpPr>
        <p:spPr>
          <a:xfrm>
            <a:off x="4708080" y="8586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pole tekstowe 14"/>
          <p:cNvSpPr/>
          <p:nvPr/>
        </p:nvSpPr>
        <p:spPr>
          <a:xfrm>
            <a:off x="1179360" y="2881440"/>
            <a:ext cx="2665440" cy="58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lekarska) 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Łącznik prostoliniowy 16"/>
          <p:cNvSpPr/>
          <p:nvPr/>
        </p:nvSpPr>
        <p:spPr>
          <a:xfrm>
            <a:off x="1014480" y="2681280"/>
            <a:ext cx="0" cy="30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Łącznik prostoliniowy 18"/>
          <p:cNvSpPr/>
          <p:nvPr/>
        </p:nvSpPr>
        <p:spPr>
          <a:xfrm flipV="1">
            <a:off x="1014480" y="3173040"/>
            <a:ext cx="1648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rostokąt 19"/>
          <p:cNvSpPr/>
          <p:nvPr/>
        </p:nvSpPr>
        <p:spPr>
          <a:xfrm>
            <a:off x="1179360" y="3613320"/>
            <a:ext cx="271800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spółka partnerska jako grupowa praktyka lekarska)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Łącznik prostoliniowy 20"/>
          <p:cNvSpPr/>
          <p:nvPr/>
        </p:nvSpPr>
        <p:spPr>
          <a:xfrm flipV="1">
            <a:off x="1014480" y="3981600"/>
            <a:ext cx="1648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rostokąt 30"/>
          <p:cNvSpPr/>
          <p:nvPr/>
        </p:nvSpPr>
        <p:spPr>
          <a:xfrm>
            <a:off x="1179360" y="4530600"/>
            <a:ext cx="2719440" cy="73476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indywidualna/specjalistyczn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Łącznik prostoliniowy 37"/>
          <p:cNvSpPr/>
          <p:nvPr/>
        </p:nvSpPr>
        <p:spPr>
          <a:xfrm flipV="1">
            <a:off x="1014480" y="4900680"/>
            <a:ext cx="16488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Łącznik prostoliniowy 44"/>
          <p:cNvSpPr/>
          <p:nvPr/>
        </p:nvSpPr>
        <p:spPr>
          <a:xfrm>
            <a:off x="3081240" y="2565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Łącznik prostoliniowy 46"/>
          <p:cNvSpPr/>
          <p:nvPr/>
        </p:nvSpPr>
        <p:spPr>
          <a:xfrm>
            <a:off x="4016520" y="2565360"/>
            <a:ext cx="0" cy="23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rostokąt 50"/>
          <p:cNvSpPr/>
          <p:nvPr/>
        </p:nvSpPr>
        <p:spPr>
          <a:xfrm>
            <a:off x="4264200" y="2406600"/>
            <a:ext cx="226044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albo 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artnerska jako grupow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Łącznik prostoliniowy 55"/>
          <p:cNvSpPr/>
          <p:nvPr/>
        </p:nvSpPr>
        <p:spPr>
          <a:xfrm flipH="1">
            <a:off x="4005000" y="289872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rostokąt 57"/>
          <p:cNvSpPr/>
          <p:nvPr/>
        </p:nvSpPr>
        <p:spPr>
          <a:xfrm>
            <a:off x="4270320" y="3613320"/>
            <a:ext cx="2273400" cy="76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Łącznik prostoliniowy 58"/>
          <p:cNvSpPr/>
          <p:nvPr/>
        </p:nvSpPr>
        <p:spPr>
          <a:xfrm flipH="1">
            <a:off x="4022640" y="39974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rostokąt 65"/>
          <p:cNvSpPr/>
          <p:nvPr/>
        </p:nvSpPr>
        <p:spPr>
          <a:xfrm>
            <a:off x="4270320" y="4530600"/>
            <a:ext cx="261324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odmiotu leczniczego (stacjonarne i całodobowe świadczenia zdrowotne inne niż szpitalne oraz w zakresie ambulatoryjnych świadczeń zdrowotnych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Łącznik prostoliniowy 67"/>
          <p:cNvSpPr/>
          <p:nvPr/>
        </p:nvSpPr>
        <p:spPr>
          <a:xfrm>
            <a:off x="4022640" y="49608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rostokąt 71"/>
          <p:cNvSpPr/>
          <p:nvPr/>
        </p:nvSpPr>
        <p:spPr>
          <a:xfrm>
            <a:off x="7400880" y="3121200"/>
            <a:ext cx="208764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soby, które uzyskały facho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uprawnienia do udzielania świadczeń zdrowotnych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Łącznik prostoliniowy 73"/>
          <p:cNvSpPr/>
          <p:nvPr/>
        </p:nvSpPr>
        <p:spPr>
          <a:xfrm>
            <a:off x="7113600" y="283680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Łącznik prostoliniowy 75"/>
          <p:cNvSpPr/>
          <p:nvPr/>
        </p:nvSpPr>
        <p:spPr>
          <a:xfrm flipH="1">
            <a:off x="7113600" y="3490920"/>
            <a:ext cx="2872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Łącznik prostoliniowy 78"/>
          <p:cNvSpPr/>
          <p:nvPr/>
        </p:nvSpPr>
        <p:spPr>
          <a:xfrm>
            <a:off x="7113600" y="4838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rostokąt 79"/>
          <p:cNvSpPr/>
          <p:nvPr/>
        </p:nvSpPr>
        <p:spPr>
          <a:xfrm>
            <a:off x="7400880" y="4465800"/>
            <a:ext cx="208764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odmioty realizujące czynności z zakresu zaopatrzenia w środki pomocnicze i wyroby medyczne będące przedmiotami ortopedycznymi (SG 10.000 euro/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rostokąt 83"/>
          <p:cNvSpPr/>
          <p:nvPr/>
        </p:nvSpPr>
        <p:spPr>
          <a:xfrm>
            <a:off x="1251000" y="5616720"/>
            <a:ext cx="49528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stacjonarne i całodobowe świadczenia zdrowotne – SZPITALNE – (SG 100.000 euro w odniesieniu do 1 zdarzenia /500.000 euro – w odniesieniu do wszystkich zdarzeń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Łącznik prostoliniowy 85"/>
          <p:cNvSpPr/>
          <p:nvPr/>
        </p:nvSpPr>
        <p:spPr>
          <a:xfrm flipH="1" flipV="1">
            <a:off x="1014120" y="5740200"/>
            <a:ext cx="236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ole tekstowe 2"/>
          <p:cNvSpPr/>
          <p:nvPr/>
        </p:nvSpPr>
        <p:spPr>
          <a:xfrm>
            <a:off x="344520" y="673200"/>
            <a:ext cx="9217080" cy="66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 : 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 przypadku, gdy w warunkach zawierania umów lub we wzorze umowy, dopuszczo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jest zlecenie podwykonawcom udzielania świadczeń opieki zdrowotnej objętych umow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- kopię zawartej umowy z podwykonawcą (bez postanowień określających finansowanie)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albo zobowiązanie podwykonawcy do zawarcia umowy z oferent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owa zawarta z podwykonawc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albo  zobowiązanie podwykonawcy do zawarcia umowy z oferente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usi zawierać zastrzeżenie o prawie Oddziału Funduszu do przeprowadzeni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i podwykonawc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na zasadach określonych w ustawie z dnia 27 sierpnia 2004 ro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o świadczeniach opieki zdrowotnej finansowanych ze środków publiczny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w zakresie wynikającym z umowy zawartej z dyrektorem oddziału Fundus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RAK POWYŻSZEJ KLAUZULI TRAKTOWANY JEST JAKO BRAK FORMALN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rak umów wymienionych w wykazie  TRAKTOWANY JEST JAKO BRAK FORMAL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umowie podwykonawczej musi zostać jednocześnie określony przedmiot powykonywanych świadcz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ole tekstowe 2"/>
          <p:cNvSpPr/>
          <p:nvPr/>
        </p:nvSpPr>
        <p:spPr>
          <a:xfrm>
            <a:off x="776160" y="701640"/>
            <a:ext cx="85694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 przypadku, gdy oferent nie przedstawi kopii umów z podwykonawcami – oświadcz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e będzie wykonywał umowę samodzielnie bez zlecania podwykonawcom udzielania świadczeń będących przedmiotem umowy</a:t>
            </a: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, gdy w warunkach zawierania umów lub we wzorze umowy, dopuszczone jest zlecanie podwykonawcom udzielania świadczeń opieki zdrowotnej objętych um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zawartej umowy z podwykonawcą (bez postanowień określających finansowanie) albo zobowiązanie podwykonawcy do zawarcia umowy z oferentem, zawierające zastrzeżenie o prawie Funduszu do przeprowadzenia kontroli na zasadach określ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ustawie, w zakresie wynikającym z umowy zawartej z dyrektorem oddziałem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961920" y="4292640"/>
            <a:ext cx="3745080" cy="18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Samodzielna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realizacja świadczeń przez Oferenta - wymagan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OŚWIADCZENIE O SAMODZIELNEJ REALIZACJI ŚWIADCZE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5060880" y="4292640"/>
            <a:ext cx="4213440" cy="194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świadczeń przy udziale </a:t>
            </a: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podwykonawc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-  wymaga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KAZ PODWYKONAWCÓW OR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MOWY Z PODWYKONAWCAMI ZAWIERAJĄCE ZASTRZEŻENIE O PRAWIE FUNDUSZU DO PRZEPROWADZENIA KONTRO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rostokąt 2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ole tekstowe 3"/>
          <p:cNvSpPr/>
          <p:nvPr/>
        </p:nvSpPr>
        <p:spPr>
          <a:xfrm>
            <a:off x="776160" y="701640"/>
            <a:ext cx="8569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 powinna zawierać następujące 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9) Oświadczenie zgodne ze wzorem określonym w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u nr 3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 zarząd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oświadczenie  świadczeniodawcy o zapoznaniu się z istotnymi dokumentami niezbędnym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przeprowadzenia postępowania oraz do posiadania tytułów prawnych do korzyst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lokali, sprzętu, aparatury medycznej i środków transportu w miejscach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9" descr=""/>
          <p:cNvPicPr/>
          <p:nvPr/>
        </p:nvPicPr>
        <p:blipFill>
          <a:blip r:embed="rId1"/>
          <a:stretch/>
        </p:blipFill>
        <p:spPr>
          <a:xfrm>
            <a:off x="4937040" y="36432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13525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rostokąt 1"/>
          <p:cNvSpPr/>
          <p:nvPr/>
        </p:nvSpPr>
        <p:spPr>
          <a:xfrm>
            <a:off x="560520" y="1484280"/>
            <a:ext cx="8856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) w przypadku, gdy oferent jest reprezentowany przez pełnomocnika –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omocnictw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do składania oświadczeń woli w imieniu oferenta, w szczególności do złożenia oferty, udzielone przez osobę lub osoby, których prawo do reprezentowania oferenta wynika z dokumentów przedstawionych wraz z ofert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1) pełnomocnictwo, o którym mowa w art. 132a ust. 2 ustawy, o ile są spełnione przesłanki określone w art. 132a ustawy (gdy świadczeniodawcy ubiegają się wspólnie o zawarcie umow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2) w przypadku, gdy oferent wyraża zgodę 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ręczanie przez komisję konkursową oświadczeń i zawiadomień za pośrednictwem środków komunikacji elektroniczn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zgodę oferenta, o której mowa w § 5 ust. 3 rozporządzenia ministra właściwego do spraw zdrowia wydanego na podstawie art.139 ust. 9 ustawy. Oferent wyraża zgodę w szczególności przez wypełnienie i załączenie do oferty formularza, którego wzór określony jest w załączniku nr 9 do zarządze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3) inne dokumenty lub oświadczenia, jeżeli obowiązek dołączenia ich do oferty został określony w warunkach zawierania um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ośnik elektroniczny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e dokumentów muszą być poświadczone za zgodność z oryginałem przez osoby uprawnione do reprezentowania ofer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rostokąt 2"/>
          <p:cNvSpPr/>
          <p:nvPr/>
        </p:nvSpPr>
        <p:spPr>
          <a:xfrm>
            <a:off x="1143000" y="2667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.d.dokumenty i oświadczenia (składane do wszystkich postępow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rostokąt 1"/>
          <p:cNvSpPr/>
          <p:nvPr/>
        </p:nvSpPr>
        <p:spPr>
          <a:xfrm>
            <a:off x="488880" y="476280"/>
            <a:ext cx="89280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w dniu składania oferty oddział Funduszu jest w  posiadaniu dokumentów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których mowa w § 14 ust. 1 pkt 2, 3 i 6 Zarządzenia nr 18/2017/DSOZ z dnia 14 marca 2017 roku (dotyczy tylko 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kopii umowy spółki cywilnej,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kopia umowy na korzystanie z usług świadczonych przez zakład posiadający koncesję na eksploatacje naturalnych surowców leczniczych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, kopii polisy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)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 potwierdzony w nich stan prawny lub faktyczny nie uległ zmianie, oferent może złożyć oświadczenie zgodne ze wzorem określonym w załączniku nr 4 ww. do zarzą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ole tekstowe 2"/>
          <p:cNvSpPr/>
          <p:nvPr/>
        </p:nvSpPr>
        <p:spPr>
          <a:xfrm>
            <a:off x="57240" y="662040"/>
            <a:ext cx="9575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27 sierpnia 2004 r. o świadczeniach opieki zdrowotnej finanso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e środków publicznych (tj. Dz.U. 2018 poz. 1510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15 kwietnia 2011 r. o działalności leczniczej (tj. Dz.U. 2018 r. poz. 16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8 września 2015 r. w sprawie ogólnych warunków umów o udzielanie świadczeń opieki zdrowotnej (Dz. U. z 2016 r., poz.1146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22 grudnia 2014 r. w sprawie sposobu ogłaszania o postępowaniu w sprawie zawarcia umowy o udzielanie świadczeń opieki zdrowotnej, składania ofert, powoływania i powoływania komisji konkursowych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jej zadań oraz trybu pracy (Dz. U. 2018, poz. 1897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nr 18/2017/DSOZ Prezesa Narodowego Funduszu Zdrowia z d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4 marca 2017 r. w sprawie warunków postępowania dotyczącego zawierania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 (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WEWNĘTRZNE DYREKTORA ŚLĄSKIEGO ODDZIAŁU WOJEWÓDZKIEGO NARODOWEGO FUNDUSZU ZDROWIA W KATOWIC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r 179/2015 z dnia 5 listopada 2015 r. w sprawie wprowadzenia zasad weryfikacji oferentów uczestniczących w postępowaniach poprzedzających zawarcie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rostokąt 1"/>
          <p:cNvSpPr/>
          <p:nvPr/>
        </p:nvSpPr>
        <p:spPr>
          <a:xfrm>
            <a:off x="849240" y="692280"/>
            <a:ext cx="849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1928880" y="476280"/>
            <a:ext cx="648000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rostokąt 1"/>
          <p:cNvSpPr/>
          <p:nvPr/>
        </p:nvSpPr>
        <p:spPr>
          <a:xfrm>
            <a:off x="920880" y="620640"/>
            <a:ext cx="8280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Załącznik nr 6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 warunków postęp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Wzór podpisu i parafy osoby podpisującej formularz ofertowy i ofert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14" descr="MC900379929[1]"/>
          <p:cNvPicPr/>
          <p:nvPr/>
        </p:nvPicPr>
        <p:blipFill>
          <a:blip r:embed="rId1"/>
          <a:stretch/>
        </p:blipFill>
        <p:spPr>
          <a:xfrm rot="169200">
            <a:off x="1767960" y="3057480"/>
            <a:ext cx="1119240" cy="25970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"/>
          <p:cNvPicPr/>
          <p:nvPr/>
        </p:nvPicPr>
        <p:blipFill>
          <a:blip r:embed="rId2"/>
          <a:stretch/>
        </p:blipFill>
        <p:spPr>
          <a:xfrm>
            <a:off x="3368520" y="1844640"/>
            <a:ext cx="5688000" cy="4021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415440" y="1413000"/>
            <a:ext cx="88585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godnie z art. 135 ust. 2 pkt 2 ustawy z dnia 27 sierpnia 2004 r. o świadczeniach opieki zdrowotnej finansowanych ze środków publicznych, oferent może złożyć oświadczenie, w którym wnos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strzeżenie informacji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najdujących się w ofercie, stanowiących tajemnicę przedsiębiorcy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UWAGA!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NIEDOPUSZCZALNE JEST ZASTRZEŻENIE CAŁEJ OFERTY!!!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415440" y="404640"/>
            <a:ext cx="9163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8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nie oferenta o zastrzeżeniu informacji stanowiących tajemnicę przedsiębiorcy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rostokąt 2"/>
          <p:cNvSpPr/>
          <p:nvPr/>
        </p:nvSpPr>
        <p:spPr>
          <a:xfrm>
            <a:off x="272880" y="1550880"/>
            <a:ext cx="94330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OŚWIADCZENIE OFERENTA O ZASTRZEŻENIU INFORMAC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STANOWIĄCYCH TAJEMNICĘ PRZEDSIĘBIOR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godnie z art. 135 ust. 2 pkt 2 ustawy z dnia 27 sierpnia 2004 r. o świadczeniach opieki zdrowotnej finansowanych ze środków publicznych (Dz. U. z 2008 r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Nr 164, poz.1027, późn. zm.) wnoszę o zastrzeżenie w złożonej przeze mnie ofercie następujących informacji, stanowiących tajemnicę przedsiębiorcy: Element ofert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astrzegam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. Wyka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2. Wykaz persone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3. Wykaz sprzę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4. Wykaz pojazd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5. Wykaz pomiesz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6. Wykaz miejsc udzielania świadczeń z danymi identyfikacyjnymi, obejmujący również miejsca udzielania świadczeń prze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7. Ofertę w zakresie liczby i ceny dla przedmiotu postępowania i miejsca udzielania świad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8. Harmonogram udzielania świadczeń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armonogram pracy personelu lub jego dostępność godzinow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0. Ankiety dotyczące danego postępowania w części zawierającej informacje zastrzeżone, wskazane w l.p. 1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1. Inne, niż wymienione w l.p. 1-10, informac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15440" y="1341000"/>
            <a:ext cx="8858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 podstawie § 5 ust. 3 rozporządzenia Ministra Zdrowia z dnia 22 grudnia 2014 r. w sprawie sposobu ogłaszania o postępowaniu w sprawie zawarcia umowy o udzielanie świadczeń opieki zdrowotnej, składania ofert powoływania i odwoływania komisji konkursowej, jej zadań oraz trybu prac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(Dz. U. poz. 1980, z późn. zm.)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ferent może wyrazić zgodę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na doręczanie przez komisję konkursową oświadczeń i zawiadomień za pośrednictwem środków komunikacji elektronicznej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, bez zachowania wymogów dotyczących bezpiecznego podpisu elektronicznego w rozumieniu art. 3 pkt 10 rozporządzenia Parlamentu Europejskiego i Rady (UE) nr 910/2014 z dnia 23 lipca 2014 r. w sprawie identyfikacji elektronicznej i usług zaufania w odniesieniu do transakcji elektronicznych na rynku wewnętrznym oraz uchylającego dyrektywę 1999/93/WE (Dz. Urz. UE L 257 z 28.08.2014, str. 73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415440" y="404280"/>
            <a:ext cx="9163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9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GODA NA DORĘCZANIE PRZEZ KOMISJĘ KONKURS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Ń I ZAWIADOMIEŃ ZA POŚREDNICTWEM ŚRODKÓW KOMUNIKACJI ELEKTRONICZNEJ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AutoShape 4"/>
          <p:cNvSpPr/>
          <p:nvPr/>
        </p:nvSpPr>
        <p:spPr>
          <a:xfrm>
            <a:off x="920880" y="1125360"/>
            <a:ext cx="8353440" cy="6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umie się przez to pisemną, zunifikowaną część oferty zawierającą </a:t>
            </a:r>
            <a:br>
              <a:rPr sz="16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fertę rzeczową i cenową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raz z opisem proponowanego potencjału wykonawczego oferenta i odpowiedziami na pytania ankiet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rostokąt 6"/>
          <p:cNvSpPr/>
          <p:nvPr/>
        </p:nvSpPr>
        <p:spPr>
          <a:xfrm>
            <a:off x="2073240" y="5238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Formularz ofer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rostokąt 8"/>
          <p:cNvSpPr/>
          <p:nvPr/>
        </p:nvSpPr>
        <p:spPr>
          <a:xfrm>
            <a:off x="631800" y="1989000"/>
            <a:ext cx="9001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mularz ofertowy zaw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ane identyfikacyjne oferen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odwykonawców z informacją o umowach podwykonawstwa, w przypadku gdy w warunkach zawierania umów lub we wzorze umowy dopuszczone jest zlecanie podwykonawcom udzielania świadczeń opieki zdrowotne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ersonelu z opisem kompetencji;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oferent obowiązany jest udokumentować gotowość udzielania świadczeń od pierwszego dnia obowiązywania umowy o udzielanie świadczeń opieki zdrowotnej przez każdą z wymienionych w wykazie osób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. Dokumentem potwierdzającym gotowość udzielania świadczeń jest zawarta z oferentem lub podwykonawcą umowa cywilnoprawna, w szczególności umowa o pracę lub pisemne zobowiązanie do zawarcia jednej z ww. um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zasobów (sprzętu, pojazdów, pomieszczeń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miejsc udzielania świadczeń z danymi identyfikacyjnym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fertę w zakresie liczby  i ceny dla przedmiotu postępowania i miejsca udzielania świadczeń, w ty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tencjał wykonawczy dla przedmiotu postępowania i miejsca udzielania świadczeń na podstawie wykaz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udzielania świad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pracy personelu lub jego ogólną dostępność godzinow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ankiety dotyczące danego postępow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rostokąt 1"/>
          <p:cNvSpPr/>
          <p:nvPr/>
        </p:nvSpPr>
        <p:spPr>
          <a:xfrm>
            <a:off x="849240" y="333360"/>
            <a:ext cx="82072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Do najczęstszych błędów podczas składania oferty zalicza się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niewypełnionych bądź niepodpisanych oświadczeń lub oświadczenie nie zostało podpisane przez osobę uprawnioną do reprezentacji podmiotu składającego ofertę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obligatoryjnych oświadczeń przez oferenta wg nieaktualnych wzor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odpisów i numeracji stron (podpisane i opatrzone kolejnym numerem musz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być zarówno formularz ofertowy, jak i wszystkie załączniki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strzeżenia o prawie Funduszu do przeprowadzenia kontroli na zasad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określonych w ustawie z dnia 27 sierpnia 2004 r. o świadczeniach opieki zdrowotnej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finansowanych ze środków publicznych (t.j. DzU 2018 r. poz.1510 z późn. zm.) w zakres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wynikającym z umowy zawartej z dyrektorem oddziału Funduszu w umow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z podwykonawcam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ych do oferty umów z podwykonawcam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w ofercie szczegółowych danych identyfikacyjnych oferenta bądź przedłożen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nieaktualnych danych kontaktowych (w ofercie należy podać taki numer telefonu oferenta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który umożliwi możliwie najszybszy i najskuteczniejszy kontakt z oferen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rostokąt 1"/>
          <p:cNvSpPr/>
          <p:nvPr/>
        </p:nvSpPr>
        <p:spPr>
          <a:xfrm>
            <a:off x="849240" y="620640"/>
            <a:ext cx="8207280" cy="59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 gdy oferent reprezentowany jest przez pełnomocni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- brak pełnomocnictwa do składania oświadczeń woli w imieniu oferenta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złożenia oferty udzielonego przez osobę lub osoby, których praw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reprezentowania oferenta wynika z dokumentów przedstawionych wraz z ofert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rzedłożonego w ofercie załącznika stanowiącego wzór podpisu i paraf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możliwości odczytu treści nośnika elektronicznego przesłanego przez świadczeniodawcę – wersja elektroniczna oferty (oferta w wersji elektronicznej zapisana w niepoprawnym formacie, brak zapisanego pliku na nośniku elektronicznym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nośnika elektronicznego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ej w ofercie umowy OC lub umowa OC zawiera niepełny okres ubezpieczen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oferent wykonywał będzie umowę samodzielnie – brak oświadc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samodzielnym wykonywaniu umowy (bez zlecania podwykonawcom udzielania świadczeń będących przedmiotem umow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rostokąt 5"/>
          <p:cNvSpPr/>
          <p:nvPr/>
        </p:nvSpPr>
        <p:spPr>
          <a:xfrm>
            <a:off x="163980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ystem oceny of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488880" y="981000"/>
            <a:ext cx="921708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cena ofert pod względem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spełniania wymogów formalno – prawnych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otyczy sprawdze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187280" y="1844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nie podlega odrzuceniu lub pozostawieniu bez rozpoz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1187280" y="2565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szystkie formularze, załączniki i oświadczenia wymag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d świadczeniodawcy i określone w materiałach informacyjnych dotycz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anego postęp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5"/>
          <p:cNvSpPr/>
          <p:nvPr/>
        </p:nvSpPr>
        <p:spPr>
          <a:xfrm>
            <a:off x="1187280" y="350028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wersja elektroniczna formularza ofertowego jest zgodna z wersją papierową formul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"/>
          <p:cNvSpPr/>
          <p:nvPr/>
        </p:nvSpPr>
        <p:spPr>
          <a:xfrm>
            <a:off x="1187280" y="429264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ymagane dokumenty formalno-prawne i czy są one zgodne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e złożoną ofert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rostokąt 5"/>
          <p:cNvSpPr/>
          <p:nvPr/>
        </p:nvSpPr>
        <p:spPr>
          <a:xfrm>
            <a:off x="2360520" y="3333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Przesłanki do odrzucenia of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849240" y="981000"/>
            <a:ext cx="8713800" cy="518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słankami do odrzucenia oferty (art. 149 ustawy)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  <a:ea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)   złożoną przez świadczeniodawcę po termin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2)   zawierającą nieprawdziwe informac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3)   jeżeli świadczeniodawca nie określił przedmiotu oferty lub nie podał 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proponowanej liczby lub ceny świadczeń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)   jeżeli zawiera rażąco niską cenę w stosunku do przedmiotu zamówi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)   jeżeli jest nieważna na podstawie odrębnych prze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6)   jeżeli świadczeniodawca złożył ofertę alternatyw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7)   jeżeli oferent lub oferta nie spełniają wymaganych warunków określo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w przepisach prawa oraz w szczegółowych warunkach umów o udziela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świadczeń opieki zdrowotnej, o których mowa w art. 146 ust. 1 pkt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)   złożoną przez świadczeniodawcę, z którym w okresie 5 lat poprzedzaj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głoszenie postępowania, została rozwiązana przez oddział wojewódz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Funduszu umowa o udzielanie świadczeń opieki zdrowotnej w zakres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lub rodzaju odpowiadającym przedmiotowi ogłoszenia, bez zach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kresu wypowiedzenia z przyczyn leżących po stronie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ole tekstowe 2"/>
          <p:cNvSpPr/>
          <p:nvPr/>
        </p:nvSpPr>
        <p:spPr>
          <a:xfrm>
            <a:off x="128520" y="662040"/>
            <a:ext cx="9433080" cy="68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5 sierpnia 2016 r. w sprawie szczegółowych kryteriów wyboru ofert w postępowaniu w sprawie zawarcia umów o udzielanie świadczeń opieki zdrowotnej (Dz.U.2016 poz.1372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miotu wykonującego działalność lecznicz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świadczeniodawcy niebędącego podmiotem wykonującym działalność leczniczą udzielającego świadczeń opieki zdrowot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4"/>
          <p:cNvSpPr/>
          <p:nvPr/>
        </p:nvSpPr>
        <p:spPr>
          <a:xfrm>
            <a:off x="797040" y="1125360"/>
            <a:ext cx="8713800" cy="4464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fertę pozostawia się bez rozpoznania gdy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złożona w innym miejscu niż określone w ogłosze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format oferty jest niezgodny z formatem zapytań ofertowych i towarzysz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im wzorów ankiet obowiązujących w danym postępow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sporządzona w innym języku niż język polski lub w sposób nieczyte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rostokąt 5"/>
          <p:cNvSpPr/>
          <p:nvPr/>
        </p:nvSpPr>
        <p:spPr>
          <a:xfrm>
            <a:off x="849240" y="40464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prawdzenie, czy oferta zawiera wymagane inform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rostokąt 6"/>
          <p:cNvSpPr/>
          <p:nvPr/>
        </p:nvSpPr>
        <p:spPr>
          <a:xfrm>
            <a:off x="920880" y="1125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Komisja sprawdza, czy oferta zawiera następujące informacje i dokume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rostokąt 7"/>
          <p:cNvSpPr/>
          <p:nvPr/>
        </p:nvSpPr>
        <p:spPr>
          <a:xfrm>
            <a:off x="763560" y="170028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Dane indentyfikacyjne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rostokąt 8"/>
          <p:cNvSpPr/>
          <p:nvPr/>
        </p:nvSpPr>
        <p:spPr>
          <a:xfrm>
            <a:off x="992160" y="2133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ę cen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992160" y="2492280"/>
            <a:ext cx="8137440" cy="720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ę cenową zapisaną w formie elektronicznej można odczytać i zaimportować do systemu informatycz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rostokąt 14"/>
          <p:cNvSpPr/>
          <p:nvPr/>
        </p:nvSpPr>
        <p:spPr>
          <a:xfrm>
            <a:off x="992160" y="3284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Ankiety zawierające dane dla określonego rodzaju lub zakresu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4"/>
          <p:cNvSpPr/>
          <p:nvPr/>
        </p:nvSpPr>
        <p:spPr>
          <a:xfrm>
            <a:off x="992160" y="3716280"/>
            <a:ext cx="8137440" cy="50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kreślone w szczegółowych materiałach informacyj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rostokąt 16"/>
          <p:cNvSpPr/>
          <p:nvPr/>
        </p:nvSpPr>
        <p:spPr>
          <a:xfrm>
            <a:off x="992160" y="4508640"/>
            <a:ext cx="89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oferta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(każda strona)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odpisana przez osoby uprawnion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do reprezentowania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rostokąt 18"/>
          <p:cNvSpPr/>
          <p:nvPr/>
        </p:nvSpPr>
        <p:spPr>
          <a:xfrm>
            <a:off x="992160" y="5373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kolejne strony oferty zostały opatrzone numerem kolej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rostokąt 7"/>
          <p:cNvSpPr/>
          <p:nvPr/>
        </p:nvSpPr>
        <p:spPr>
          <a:xfrm>
            <a:off x="704880" y="40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świadczenie o wpisie do właściwych rejest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"/>
          <p:cNvSpPr/>
          <p:nvPr/>
        </p:nvSpPr>
        <p:spPr>
          <a:xfrm>
            <a:off x="704880" y="887400"/>
            <a:ext cx="8713800" cy="36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1. Oświadczenie o wpisie do właściwych rejestrów, według wzoru stanowiącego załącznik „Oświadczenie o wpisach do rejestrów” do aktualnego zarządzenia w sprawie warunków postępowania dotyczących zawierania umów o udzielanie świadczeń opieki zdrowotnej – rejestr podmiotów działalności lecznicz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2. Oświadczenie o wpisie do właściwych rejestrów, według wzoru stanowiącego załącznik „Oświadczenie o wpisach do rejestrów” do aktualnego zarządzenia w sprawie warunków postępowania dotyczących zawierania umów o udzielanie świadczeń opieki zdrowotnej – krajowy rejestr sądow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3. Oświadczenie o wpisie do właściwych rejestrów, według wzoru stanowiącego załącznik „Oświadczenie o wpisach do rejestrów” do aktualnego zarządzenia w sprawie warunków postępowania dotyczących zawierania umów o udzielanie świadczeń opieki zdrowotnej – ewidencja działalności gospodarczej lub centralna ewidencja i informacja o działalności gospodarcz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rostokąt 10"/>
          <p:cNvSpPr/>
          <p:nvPr/>
        </p:nvSpPr>
        <p:spPr>
          <a:xfrm>
            <a:off x="704880" y="46022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umowy spółki cywilnej lub wyciąg z tej um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04880" y="5084640"/>
            <a:ext cx="8496360" cy="108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wierający postanowienia o zasadach reprezentacji spółki albo uchwała wspólników spółki cywilnej w przedmiocie zasad reprezentacji spółki – w przypadku zakładów opieki zdrowotnej, dla której organem założycielskim jest spółka cywil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rostokąt 5"/>
          <p:cNvSpPr/>
          <p:nvPr/>
        </p:nvSpPr>
        <p:spPr>
          <a:xfrm>
            <a:off x="920880" y="260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polisy lub innego dokumentu potwierdzającego zawarcie przez oferenta   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umowy ubezpieczenia  odpowiedzialności cywilnej oferen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4"/>
          <p:cNvSpPr/>
          <p:nvPr/>
        </p:nvSpPr>
        <p:spPr>
          <a:xfrm>
            <a:off x="920880" y="1052640"/>
            <a:ext cx="8496000" cy="17269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…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 szkody wyrządzone w związku z udzielaniem świadczeń w zakresie przedmiotu postępowania na okres obowiązywania umowy; oferent może złożyć także umowę przedwstępną lub inny dokument, w tym także oświadczenie, stwierdzające, że umowa ubezpieczenia odpowiedzialności cywilnej zostanie zawarta na okres obowiązywania um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rostokąt 7"/>
          <p:cNvSpPr/>
          <p:nvPr/>
        </p:nvSpPr>
        <p:spPr>
          <a:xfrm>
            <a:off x="920880" y="292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 gdy oferent jest reprezentowany przez pełnomocni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– pełnomocnictwo do składania oświadczeń woli w imieniu ofer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4"/>
          <p:cNvSpPr/>
          <p:nvPr/>
        </p:nvSpPr>
        <p:spPr>
          <a:xfrm>
            <a:off x="920880" y="3716280"/>
            <a:ext cx="849600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Udzielone przez osobę lub osoby, których prawo do reprezentowania oferenta wynika z dokumentów przedstawionych wraz z ofert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rostokąt 10"/>
          <p:cNvSpPr/>
          <p:nvPr/>
        </p:nvSpPr>
        <p:spPr>
          <a:xfrm>
            <a:off x="920880" y="465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0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Inne dokumenty lub oświadczenia, jeżeli obowiązek ich dołączenia do oferty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określony został w szczegółowych materiałach informa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/>
          <p:cNvSpPr/>
          <p:nvPr/>
        </p:nvSpPr>
        <p:spPr>
          <a:xfrm>
            <a:off x="920880" y="404640"/>
            <a:ext cx="849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Fundusz dopuszcza zlecanie podwykonawcom udzielani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świadczeń opieki zdrowotnej objętych umową:</a:t>
            </a:r>
            <a:r>
              <a:rPr b="1" i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776160" y="1341360"/>
            <a:ext cx="8496360" cy="352764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Wykaz podwykonawców spełniających wymagania określone w szczegółowych materiałach informacyjnych dotyczących danego  przedmiotu postępow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Kopia zawartej umowy (bez postanowień określających finansowanie) albo zobowiązanie podwykonawcy do zawarcia umowy z oferentem, zawierające zastrzeżenie o prawie Funduszu do przeprowadzenia kontr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rostokąt 1"/>
          <p:cNvSpPr/>
          <p:nvPr/>
        </p:nvSpPr>
        <p:spPr>
          <a:xfrm>
            <a:off x="776160" y="549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o dzieje się w przypadku zidentyfikowania brakó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4"/>
          <p:cNvSpPr/>
          <p:nvPr/>
        </p:nvSpPr>
        <p:spPr>
          <a:xfrm>
            <a:off x="920880" y="1341360"/>
            <a:ext cx="8496000" cy="4248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identyfikowanie braku któregokolwiek z wymaganych dokumentów bądź oświadczeń, skutkuje wezwaniem świadczeniodaw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 uzupełnieni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braków formalnych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ezwanie do uzupełnienia braków formalnych m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formę pisemną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skazuje, jakie dokumenty należy uzupełnić i w jakim termi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ów formalnych, nie przedstawienia 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wyznaczonym terminie bądź przedstawienie informacji niepełnych, niezgodnych ze stanem faktycznym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kutkuje odrzuceniem oferty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zywa oferenta  - pod rygorem odrzucenia ofert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- do ich usunięcia/uzupełnienia w wyznaczonym termi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–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minimum 2 dni robocze od dnia wez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rostokąt 1"/>
          <p:cNvSpPr/>
          <p:nvPr/>
        </p:nvSpPr>
        <p:spPr>
          <a:xfrm>
            <a:off x="9208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ersja elektroniczna a wersja papierowa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920880" y="1628640"/>
            <a:ext cx="8496000" cy="3816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Komisja wczytuje złożoną przez świadczeniodawcę na nośniku elektronicznym ofertę do systemu informatycznego i sprawdza, czy forma elektroniczna oferty jest zgodna ze złożoną wersją papierową oferty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nośnika elektronicznego nie można odczytać bądź wersja elektroniczna i papierowa oferty nie są zgodne, komisja wzywa oferenta do uzupełnienia braków tj. dostarczenia nowego nośnika zawierającego ofertę w formie elektronicznej zgodną ze złożoną wersją papierow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Documents"/>
          <p:cNvSpPr/>
          <p:nvPr/>
        </p:nvSpPr>
        <p:spPr>
          <a:xfrm>
            <a:off x="6465960" y="465300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rostokąt 1"/>
          <p:cNvSpPr/>
          <p:nvPr/>
        </p:nvSpPr>
        <p:spPr>
          <a:xfrm>
            <a:off x="178452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Dokumenty formalno-praw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rostokąt 3"/>
          <p:cNvSpPr/>
          <p:nvPr/>
        </p:nvSpPr>
        <p:spPr>
          <a:xfrm>
            <a:off x="1352520" y="10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W części dotyczącej oceny zgodności złożonej oferty z dokumentami formalno-prawnymi komisja sprawdza w szczególności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4"/>
          <p:cNvSpPr/>
          <p:nvPr/>
        </p:nvSpPr>
        <p:spPr>
          <a:xfrm>
            <a:off x="992160" y="1773360"/>
            <a:ext cx="3960720" cy="20872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godność oświadczenia świadczeniodawcy dotyczącego wpisów do rejestr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ublicznym rejestrze teleinformatycz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"/>
          <p:cNvSpPr/>
          <p:nvPr/>
        </p:nvSpPr>
        <p:spPr>
          <a:xfrm>
            <a:off x="5097600" y="1773360"/>
            <a:ext cx="3958920" cy="216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y specjalności komórek organizacyjnych i dziedziny medyczne są odpowiednie dla realizacji zakresu, na który została złożon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rostokąt 6"/>
          <p:cNvSpPr/>
          <p:nvPr/>
        </p:nvSpPr>
        <p:spPr>
          <a:xfrm>
            <a:off x="704880" y="4292640"/>
            <a:ext cx="892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W przypadku stwierdzenia niezgodności rejestru wskazanego w oświadczeniu z rejestrem publicznym lub gdy rejestr nie zawiera informacji o specjalności komórek organizacyjnych i dziedziny medycznej odpowiedniej dla realizacji zakresu, komisja przygotowuje stosowną adnotację oraz wzywa oferenta do uzupełnienia braku tj. przedłożenia aktualnego wypisu z rejestru podmiotów wykonujących działalność leczniczą w wersji papier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u, nie przedstawienie w wyznaczonym terminie, bądź przedstawienie informacji nieprawdziwych skutkuje odrzuceniem oferty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rostokąt 1"/>
          <p:cNvSpPr/>
          <p:nvPr/>
        </p:nvSpPr>
        <p:spPr>
          <a:xfrm>
            <a:off x="2958840" y="333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zęść niejawna postęp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920880" y="1125360"/>
            <a:ext cx="8496000" cy="266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y, które w części jawnej postępowania nie zostały odrzuco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bądź nie pozostały bez rozpatrzenia, uczestniczą w części niejawnej postęp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cena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 dokonywana w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ęści niejawnej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tyczy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potencjału świadczeniodawcy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(zasoby kadrowo -, sprzętowo-, lokalowe)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pełnienia wymagań mających wpływ na jakość udzielanych świadcz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>
            <a:off x="920880" y="4365720"/>
            <a:ext cx="8496000" cy="180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rostokąt 4"/>
          <p:cNvSpPr/>
          <p:nvPr/>
        </p:nvSpPr>
        <p:spPr>
          <a:xfrm>
            <a:off x="1208160" y="4724280"/>
            <a:ext cx="79214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Szczegółowe kryteria oceny ofert określa Rozporządzenie Ministra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 dnia 5 sierpnia 2016 r. w sprawie szczegółowych kryteriów wyboru ofer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ostępowaniu w sprawie zawarcia umów o udzielanie świadcz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pieki zdrowotnej (Dz.U.2016 poz.1372 z późn.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4"/>
          <p:cNvSpPr/>
          <p:nvPr/>
        </p:nvSpPr>
        <p:spPr>
          <a:xfrm>
            <a:off x="728640" y="1628640"/>
            <a:ext cx="8713800" cy="24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owzięcia przez komisję konkursową uzasadnionego podejrzenia              o celowym oraz  mającym wpływ na wybór oferty podania nieprawdziwych d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fercie tzw. „kłamstwo ofertowe” istnieje obowiązek złożenia stosownego zawiadomienia do Prokuratury. Zgodnie bowiem, z art. 193 pkt 7 usta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 świadczeniach opieki zdrowotnej finansowanych ze środków publicznych: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Kto podaje w ofercie złożonej w postępowaniu w sprawie zawarcia umowy o udzielanie świadczeń opieki zdrowotnej finansowanych przez Fundusz nieprawdziwe informacj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i dane, podlega karze grz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44520" y="2060640"/>
            <a:ext cx="9066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2 września 2015 r. w sprawie ogłoszenia jednolitego tekstu rozporządzenia Ministra Zdrowia w sprawie świadczeń gwarantowanych z zakresu świadczeń pielęgnacyjnych i opiekuńczych w ramach opieki długoterminowej (Dz.U. z 2015 r. poz. 1658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45/2018/DSOZ PREZESA NARODOWEGO FUNDUSZU ZDROWI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maj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świadczenia pielęgnacyjne i opiekuńcze 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3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lipca 2018 r. zmieniające zarządzenie w sprawie określenia warunków zawierania i realizacji umów w rodzaju świadczenia pielęgnacyjne i opiekuń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7680"/>
            <a:ext cx="89154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ŚWIADCZENIA PIELĘGNACYJNE I OPIEKUŃCZ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728640" y="1628640"/>
            <a:ext cx="8713800" cy="396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rzedstawienia przez świadczeniodawcę nieprawdziwych lub niezgodnych ze stanem faktycznym danych lub informacji,  mających istotny wpływ na zawarcie umowy w toku postępowania w sprawie zawarcia umowy Dyrektor oddziału wojewódzkiego Funduszu może rozwiązać umowę w części albo w całości bez zachowania okresu wypowiedzenia (§ 36 ust 1. pkt 7 Ogólnych warunków umów o udzielanie świadczeń opieki zdrowotnej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rugiej strony, rozwiązanie umowy o udzielanie świadczeń opieki zdrowot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kreślonym rodzaju lub zakresie w trybie natychmiastowym z przyczyn leżących po stronie świadczeniodawcy stanowi podstawę obligatoryjnego odrzucenia oferty (art. 149 ust. 1 pkt.8 </a:t>
            </a: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ustawy o świadczeniach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1"/>
          <p:cNvSpPr/>
          <p:nvPr/>
        </p:nvSpPr>
        <p:spPr>
          <a:xfrm>
            <a:off x="0" y="28080"/>
            <a:ext cx="920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rostokąt 6"/>
          <p:cNvSpPr/>
          <p:nvPr/>
        </p:nvSpPr>
        <p:spPr>
          <a:xfrm>
            <a:off x="14968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Zanim złożysz ofert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rostokąt 7"/>
          <p:cNvSpPr/>
          <p:nvPr/>
        </p:nvSpPr>
        <p:spPr>
          <a:xfrm>
            <a:off x="329040" y="12682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d złożeniem oferty należy sprawdzić, czy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rostokąt 10"/>
          <p:cNvSpPr/>
          <p:nvPr/>
        </p:nvSpPr>
        <p:spPr>
          <a:xfrm>
            <a:off x="1568520" y="17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rzygotowana przy użyciu właściwej wersji oprogram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 którym mowa w regulaminie technicznym przygotowania ofer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rostokąt 12"/>
          <p:cNvSpPr/>
          <p:nvPr/>
        </p:nvSpPr>
        <p:spPr>
          <a:xfrm>
            <a:off x="1676520" y="25588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pobrany został właściwy plik z zapytaniem ofertowy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rostokąt 16"/>
          <p:cNvSpPr/>
          <p:nvPr/>
        </p:nvSpPr>
        <p:spPr>
          <a:xfrm>
            <a:off x="689040" y="3141720"/>
            <a:ext cx="921708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formularze ofertowe zostały wypełn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papierowy formularzy ofertowych i wersja elektroniczna  zapisa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na nośniku elektronicznym są tej samej wers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strony formularza oferty są ponumerowane i podpisane przez osobę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uprawnioną do reprezentowania świadczeniodawcy zgodnie z załączonym do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załka w prawo 18"/>
          <p:cNvSpPr/>
          <p:nvPr/>
        </p:nvSpPr>
        <p:spPr>
          <a:xfrm>
            <a:off x="992160" y="1916280"/>
            <a:ext cx="432000" cy="2174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załka w prawo 19"/>
          <p:cNvSpPr/>
          <p:nvPr/>
        </p:nvSpPr>
        <p:spPr>
          <a:xfrm>
            <a:off x="99216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załka w prawo 20"/>
          <p:cNvSpPr/>
          <p:nvPr/>
        </p:nvSpPr>
        <p:spPr>
          <a:xfrm>
            <a:off x="99216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załka w prawo 21"/>
          <p:cNvSpPr/>
          <p:nvPr/>
        </p:nvSpPr>
        <p:spPr>
          <a:xfrm>
            <a:off x="992160" y="400536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załka w prawo 22"/>
          <p:cNvSpPr/>
          <p:nvPr/>
        </p:nvSpPr>
        <p:spPr>
          <a:xfrm>
            <a:off x="992160" y="5084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rostokąt 6"/>
          <p:cNvSpPr/>
          <p:nvPr/>
        </p:nvSpPr>
        <p:spPr>
          <a:xfrm>
            <a:off x="1712880" y="668160"/>
            <a:ext cx="71280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nośnik, na którym została zapisana wersja elektroniczna oferty jest prawidłowo oznaczon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dodatkowe dokumenty i oświadczenia zostały załączone, ponumerowane i podpisane przez osobę uprawnioną do reprezentowania świadczeniodawcy zgodnie z załączonym do 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ałączone dokumenty stanowiące kserokopie są potwierdzone                  „za zgodność z oryginałem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formularza oferty (z ponumerowanymi stronami i podpisami) wraz z nośnikiem elektronicznym i wersja elektroniczna oferty zostały umieszczone w oddzielnej zaklejonej kopercie oznaczonej słowem „oferta”, nazwą i adresem świadczeniodawcy oraz kodem                           i przedmiotem postępowania (zgodnie z ogłoszeniem o postępowan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załka w prawo 7"/>
          <p:cNvSpPr/>
          <p:nvPr/>
        </p:nvSpPr>
        <p:spPr>
          <a:xfrm>
            <a:off x="992160" y="836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załka w prawo 8"/>
          <p:cNvSpPr/>
          <p:nvPr/>
        </p:nvSpPr>
        <p:spPr>
          <a:xfrm>
            <a:off x="992160" y="21574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załka w prawo 10"/>
          <p:cNvSpPr/>
          <p:nvPr/>
        </p:nvSpPr>
        <p:spPr>
          <a:xfrm>
            <a:off x="9921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załka w prawo 11"/>
          <p:cNvSpPr/>
          <p:nvPr/>
        </p:nvSpPr>
        <p:spPr>
          <a:xfrm>
            <a:off x="992160" y="4797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rostokąt 1"/>
          <p:cNvSpPr/>
          <p:nvPr/>
        </p:nvSpPr>
        <p:spPr>
          <a:xfrm>
            <a:off x="1136520" y="29671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nformacje zawarte w opracowaniu nie stanowią źródła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495000" y="2674440"/>
            <a:ext cx="89154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8 marca 2018 r. w sprawie ogłoszenia jednolitego tekstu rozporządzenia Ministra Zdrowia w sprawie świadczeń gwarantowanych z zakresu opieki paliatywnej i hospicyjnej (Dz.U. z 2018 r. poz. 742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ozporządzenie Ministra Zdrowia z dnia 12 czerwca 2018 r. zmieniające rozporządzenie w sprawie świadczeń gwarantowanych z zakresu opieki paliatywnej i hospicyjn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4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1 lipc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opieka paliatywna i hospicyjn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rostokąt 4"/>
          <p:cNvSpPr/>
          <p:nvPr/>
        </p:nvSpPr>
        <p:spPr>
          <a:xfrm>
            <a:off x="2476440" y="3105000"/>
            <a:ext cx="495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rostokąt 8"/>
          <p:cNvSpPr/>
          <p:nvPr/>
        </p:nvSpPr>
        <p:spPr>
          <a:xfrm>
            <a:off x="99216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Gdzie i kiedy można zapoznać się ze szczegółowymi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arunkami postępowan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rostokąt 11"/>
          <p:cNvSpPr/>
          <p:nvPr/>
        </p:nvSpPr>
        <p:spPr>
          <a:xfrm>
            <a:off x="992160" y="2565360"/>
            <a:ext cx="85694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głosz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zawiera szczegółowe informacje, od kiedy i gdzie moż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brać i zapoznać się z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iałami niezbędnymi do przygotowania ofer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tórymi są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aplikacja do sporządzenia oferty w wersji elektronicz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plik z zapytaniem ofertowym do zaimplementowania do aplikacji ofert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wzory formularzy ofertowych i oświadcz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rostokąt 8"/>
          <p:cNvSpPr/>
          <p:nvPr/>
        </p:nvSpPr>
        <p:spPr>
          <a:xfrm>
            <a:off x="2664000" y="15552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Miejsce i termin składania of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857160" y="617400"/>
            <a:ext cx="8640720" cy="21639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Miejs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składania ofert zostaje precyzyjnie określone w ogłoszeniu postępowani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leży pamiętać, że wskazane w ogłoszeniu o konkursie ofert miejsce  do złożenia oferty jest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łącznie uprawni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jej przyjęcia. Pozostawienie oferty w innym miejscu spowoduje pozostawienie oferty bez rozpoznan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odob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złożenia oferty zostaje precyzyjnie określony w ogłosz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stępuje to najczęściej poprzez podanie konkretnej daty i godziny, do której należy złożyć oferty. Oferta złożona po wskazanym terminie podlega odrzuc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lipsa 11"/>
          <p:cNvSpPr/>
          <p:nvPr/>
        </p:nvSpPr>
        <p:spPr>
          <a:xfrm>
            <a:off x="2593800" y="2852640"/>
            <a:ext cx="4680000" cy="576360"/>
          </a:xfrm>
          <a:prstGeom prst="ellipse">
            <a:avLst/>
          </a:prstGeom>
          <a:noFill/>
          <a:ln w="93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ferta może zostać złoż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rostokąt 16"/>
          <p:cNvSpPr/>
          <p:nvPr/>
        </p:nvSpPr>
        <p:spPr>
          <a:xfrm>
            <a:off x="6004080" y="38196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 pośrednictwem pocz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rostokąt 18"/>
          <p:cNvSpPr/>
          <p:nvPr/>
        </p:nvSpPr>
        <p:spPr>
          <a:xfrm>
            <a:off x="1658880" y="38196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sobi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Łącznik prosty ze strzałką 20"/>
          <p:cNvCxnSpPr/>
          <p:nvPr/>
        </p:nvCxnSpPr>
        <p:spPr>
          <a:xfrm>
            <a:off x="6271920" y="3514320"/>
            <a:ext cx="1818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8" name="Łącznik prosty ze strzałką 23"/>
          <p:cNvCxnSpPr/>
          <p:nvPr/>
        </p:nvCxnSpPr>
        <p:spPr>
          <a:xfrm flipH="1">
            <a:off x="3036240" y="3432240"/>
            <a:ext cx="300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9" name="AutoShape 4"/>
          <p:cNvSpPr/>
          <p:nvPr/>
        </p:nvSpPr>
        <p:spPr>
          <a:xfrm>
            <a:off x="441360" y="4467240"/>
            <a:ext cx="4895640" cy="10764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miejscu i w terminie wskazanym w ogłoszeniu o postępowaniu. Oferent wówczas otrzymuje potwierdzenie jej złożenia zawierające datę złożenia oraz numer z rejestru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4"/>
          <p:cNvSpPr/>
          <p:nvPr/>
        </p:nvSpPr>
        <p:spPr>
          <a:xfrm>
            <a:off x="5450040" y="4500720"/>
            <a:ext cx="4160520" cy="158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fertę przesłaną drogą pocztową uważa się za złożoną w terminie, jeżeli data stempla pocztowego (data nadania)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ie jest późniejsza niż termin składania ofer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ślony w ogłoszeniu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ra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jeżeli oferta wpłynie do oddziału wojewódzkiego NFZ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później niż na jeden dzień przed otwarciem ofer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944280" y="1916280"/>
            <a:ext cx="84661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ty składa się w zamkniętych kopertach lub paczkach w miejscu i terminie określonych w ogłoszeniu o postępowaniu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znaczenie przesyłki wyraźnie wskazuje na zamieszczoną wewnątrz ofertę oraz wskazuje kod postępow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ent obowiązany jest złożyć ofertę w formie pisemnej oraz elektronicznej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ndara"/>
              </a:rPr>
              <a:t>OFER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776160" y="552600"/>
            <a:ext cx="8856720" cy="2300040"/>
          </a:xfrm>
          <a:prstGeom prst="roundRect">
            <a:avLst>
              <a:gd name="adj" fmla="val 16667"/>
            </a:avLst>
          </a:prstGeom>
          <a:solidFill>
            <a:srgbClr val="2862a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 obejm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1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wydruk formularza ofertowego zgodny z jego postacią elektroniczną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- opatrzony na każdej stronie tego wydruku kolejnym numerem oraz podpis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lub parafami osób uprawnionych do reprezentowania oferenta, zgodnymi ze wzorami podpisów, zamieszczonymi w tabeli określonej w załączniku nr 6 do zarządzen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2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dokumenty i oświadczenia wymienione w § 14  Zarządzenia Prezesa NFZ nr 18/2017/DSOZ z dnia 14 marca 2017 r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rostokąt 1"/>
          <p:cNvSpPr/>
          <p:nvPr/>
        </p:nvSpPr>
        <p:spPr>
          <a:xfrm>
            <a:off x="4011480" y="3789360"/>
            <a:ext cx="54784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ularz ofertowy przygotowuje się w formie elektronicznej przy użyciu aplikacji ofertowej             w sposób określony w regulaminie technicznym przygotowania ofer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formie wydruku stanowi on wersję pisemną formularza ofert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14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1281240" y="3141720"/>
            <a:ext cx="179532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9-03-12T08:41:44Z</cp:lastPrinted>
  <dcterms:modified xsi:type="dcterms:W3CDTF">2019-03-15T13:16:38Z</dcterms:modified>
  <cp:revision>1145</cp:revision>
  <dc:subject/>
  <dc:title>Slajd 1</dc:title>
</cp:coreProperties>
</file>